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5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8044-1371-4BC7-9F05-DE8F1A964A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747A-DFC1-4A7F-8489-8E17162C8C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0948-EC98-4784-8197-8FC86396FB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2960" y="4716000"/>
            <a:ext cx="494640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just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9DB6-4347-48B9-9822-5B071113BD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B423-49DE-4E8D-A012-6D7806CEB2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5D4A-DBCB-4E9C-8563-56531D6CA1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2960" y="4716000"/>
            <a:ext cx="494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ABB9-13E1-4BA6-8906-0EA2C1C769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9C28-2B03-4ACA-BB3B-CFC8617EFA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5DD4-E80F-4590-AE40-89575AB0B4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47AC-CF02-425B-BC19-D675E16680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2960" y="4716000"/>
            <a:ext cx="494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55D6-7857-447D-839C-30ECF3AB36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DC7B-F862-4AF0-ADC4-39B2839B56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E104-78A5-4604-8650-E80EDF5BA8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648B-75E5-4616-BEEB-AEEADD0227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9CB6-706A-4E67-AC09-83FD7595A2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919C-177C-4A18-B4BA-FA9635C066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9585-9B16-4694-8E35-9997686164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2960" y="4716000"/>
            <a:ext cx="494640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just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FBB7-C1D5-45B6-BB22-E6667619F2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3EA9-D2F8-4A2F-B0B1-96411AE48E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124F-ECDE-4A43-8A15-03294E2CFE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F8AE-9BA5-49AB-9113-C806AF0BC0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F318-D08A-4A93-BEEE-A3D7A8F22A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32E0-A8C1-487C-AF98-4F318329FE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FF4D-8CE6-4323-A90B-C941190E04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C6B3-F02D-48E6-A1E8-0CCE890882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4183-AA48-495D-8064-11ABEE3CE6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01800" y="76032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2960" y="4716000"/>
            <a:ext cx="494640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ank you very much for listening – if the moderator will allow it then I’d be very happy to take any questions from the fl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B053-BFAF-4986-A2E9-B61F7121C7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94D8-75A0-4BC7-9B91-8FF8CCAA4D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F84E-C27E-490B-B3B7-0BFA956C21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407C-E4C7-41E0-BC3F-8F7990A2E2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BDA3-49AB-455B-8538-DEF57AD268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B889-086D-46F7-AE63-E04AAF5422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DE949-3E1E-4C34-80B2-7C1A97377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72D19-17D5-469E-81E8-325A12AD6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64D60-8E29-4BFD-87AF-935B7F6B9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E2554-27D6-423F-90E8-87E85D1767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BABE8-F103-42D4-AD90-4BB486EF31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EDC91-E1FC-4E19-8F9E-FA5A70E5F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9E71D-6DF9-47AF-A3EA-D51FD4E3E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CA151-507B-4C16-BB3B-5AD4E7146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55640" y="333000"/>
            <a:ext cx="56880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E2B42-B94E-48CD-B65D-E89BD9C84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7B3E2-7A15-4B85-A86F-7F0BCD966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30010-640E-4F4A-983E-77A420EDA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9C909-31C1-4B1C-8FF8-18082C0FD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-3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80364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7E3A-A5A1-4254-A436-FDB5D827B660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A1E8-05BB-49EB-8EF8-2F2EAE81A5ED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743200" y="63244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03280" y="2781360"/>
            <a:ext cx="8280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GB" sz="2800" spc="-1" strike="noStrike">
                <a:solidFill>
                  <a:srgbClr val="0066cc"/>
                </a:solidFill>
                <a:latin typeface="Arial"/>
              </a:rPr>
              <a:t>Presentation 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cc"/>
                </a:solidFill>
                <a:latin typeface="Arial"/>
              </a:rPr>
              <a:t>EU Regional Water and Energy Semin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cc"/>
                </a:solidFill>
                <a:latin typeface="Arial"/>
              </a:rPr>
              <a:t>for the Pacific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048320" y="836640"/>
            <a:ext cx="73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3300"/>
                </a:solidFill>
                <a:latin typeface="Arial"/>
              </a:rPr>
              <a:t>The European Investment Bank in the Pacific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733720"/>
            <a:ext cx="4859280" cy="64764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Katrin Bock</a:t>
            </a:r>
            <a:br>
              <a:rPr sz="2000"/>
            </a:b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EIB Pacific Regional Office</a:t>
            </a:r>
            <a:endParaRPr b="1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643280" y="5994360"/>
            <a:ext cx="4319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Nadi, 12 May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DF39-2C28-413F-B354-50A3B9E9DB70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971640" y="3679920"/>
            <a:ext cx="8064360" cy="99900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lnSpc>
                <a:spcPct val="11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ACPs &amp; OCTs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B’s role focuses on the Financial Cooperation under the Cotonou Agreement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ing the</a:t>
            </a:r>
            <a:r>
              <a:rPr b="1" lang="en-GB" sz="1800" spc="-1" strike="noStrike">
                <a:solidFill>
                  <a:srgbClr val="015aab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Investment Facility (IF)</a:t>
            </a:r>
            <a:r>
              <a:rPr b="1" lang="en-GB" sz="1800" spc="-1" strike="noStrike">
                <a:solidFill>
                  <a:srgbClr val="015aab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 lending from its</a:t>
            </a:r>
            <a:r>
              <a:rPr b="1" lang="en-GB" sz="1800" spc="-1" strike="noStrike">
                <a:solidFill>
                  <a:srgbClr val="015aab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own resources (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971640" y="199872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0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nce 2003: “Cotonou Partnership Agreemen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971640" y="1571760"/>
            <a:ext cx="8064360" cy="3682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ACPs: The oldest mandate entrusted to the EIB (19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971640" y="2854440"/>
            <a:ext cx="8064360" cy="3682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OCTs: Since 19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71640" y="3281400"/>
            <a:ext cx="62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nce 2001: “Overseas Association Decis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971640" y="24256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ilds on th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f 45 years of experien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971640" y="98100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EIB’s Mandates &amp; Financial Resources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394000" y="5157720"/>
            <a:ext cx="4572000" cy="1224000"/>
          </a:xfrm>
          <a:prstGeom prst="rect">
            <a:avLst/>
          </a:prstGeom>
          <a:solidFill>
            <a:srgbClr val="96969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ources of fun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Development Fund (ED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tional Capital 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 rot="5400000">
            <a:off x="4500360" y="4737240"/>
            <a:ext cx="360360" cy="360360"/>
          </a:xfrm>
          <a:custGeom>
            <a:avLst/>
            <a:gdLst>
              <a:gd name="textAreaLeft" fmla="*/ 56160 w 360360"/>
              <a:gd name="textAreaRight" fmla="*/ 315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4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187" name="Text Box 15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6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ABE1-02F0-44A9-A3F7-EAE43F7FF471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slide overview"/>
          <p:cNvPicPr/>
          <p:nvPr/>
        </p:nvPicPr>
        <p:blipFill>
          <a:blip r:embed="rId1"/>
          <a:stretch/>
        </p:blipFill>
        <p:spPr>
          <a:xfrm>
            <a:off x="973080" y="1069920"/>
            <a:ext cx="7920000" cy="5335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1258920" y="3573360"/>
            <a:ext cx="780840" cy="33336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4"/>
          <p:cNvGrpSpPr/>
          <p:nvPr/>
        </p:nvGrpSpPr>
        <p:grpSpPr>
          <a:xfrm>
            <a:off x="971640" y="506520"/>
            <a:ext cx="6335640" cy="379440"/>
            <a:chOff x="971640" y="506520"/>
            <a:chExt cx="6335640" cy="379440"/>
          </a:xfrm>
        </p:grpSpPr>
        <p:sp>
          <p:nvSpPr>
            <p:cNvPr id="194" name="Text Box 5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6"/>
            <p:cNvSpPr/>
            <p:nvPr/>
          </p:nvSpPr>
          <p:spPr>
            <a:xfrm>
              <a:off x="1619280" y="51768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7"/>
          <p:cNvSpPr/>
          <p:nvPr/>
        </p:nvSpPr>
        <p:spPr>
          <a:xfrm>
            <a:off x="1332000" y="3573360"/>
            <a:ext cx="792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87b00"/>
                </a:solidFill>
                <a:latin typeface="Arial"/>
                <a:ea typeface="Times New Roman"/>
              </a:rPr>
              <a:t>Gr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6726-AA62-4CEB-8995-20C24AA40632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971640" y="981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OCTs Mandate and Funds managed by the E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971640" y="1913040"/>
            <a:ext cx="7921440" cy="173196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971640" y="23526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1001"/>
              </a:spcBef>
              <a:buSzPct val="102812"/>
              <a:buBlip>
                <a:blip r:embed="rId1"/>
              </a:buBlip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Concluded on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27 November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971640" y="1925640"/>
            <a:ext cx="7921440" cy="3682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OCTs “Overseas Association Decis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971640" y="27828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1001"/>
              </a:spcBef>
              <a:buSzPct val="102812"/>
              <a:buBlip>
                <a:blip r:embed="rId2"/>
              </a:buBlip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Expiring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31 December 20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971640" y="3213000"/>
            <a:ext cx="62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Beneficiaries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20 OC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971640" y="3860640"/>
            <a:ext cx="7921440" cy="3682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Sources of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971640" y="4227480"/>
            <a:ext cx="2376360" cy="1619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Investment Facility </a:t>
            </a:r>
            <a:br>
              <a:rPr sz="1600"/>
            </a:b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(EDF resources)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3395520" y="4227480"/>
            <a:ext cx="3095640" cy="785880"/>
          </a:xfrm>
          <a:prstGeom prst="rect">
            <a:avLst/>
          </a:prstGeom>
          <a:solidFill>
            <a:srgbClr val="99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f5f5f"/>
                </a:solidFill>
                <a:latin typeface="Arial"/>
              </a:rPr>
              <a:t>Risk-bearing revolving fund </a:t>
            </a:r>
            <a:br>
              <a:rPr sz="1600"/>
            </a:br>
            <a:r>
              <a:rPr b="0" lang="en-GB" sz="1600" spc="-1" strike="noStrike">
                <a:solidFill>
                  <a:srgbClr val="5f5f5f"/>
                </a:solidFill>
                <a:latin typeface="Arial"/>
              </a:rPr>
              <a:t>to grant:</a:t>
            </a:r>
            <a:br>
              <a:rPr sz="1600"/>
            </a:br>
            <a:r>
              <a:rPr b="0" lang="en-GB" sz="1600" spc="-1" strike="noStrike">
                <a:solidFill>
                  <a:srgbClr val="5f5f5f"/>
                </a:solidFill>
                <a:latin typeface="Arial"/>
              </a:rPr>
              <a:t>loans, equity &amp;  guarantees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6529320" y="4227480"/>
            <a:ext cx="1224000" cy="79524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54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EUR 48.5 m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3395520" y="5048280"/>
            <a:ext cx="3095640" cy="785880"/>
          </a:xfrm>
          <a:prstGeom prst="rect">
            <a:avLst/>
          </a:prstGeom>
          <a:solidFill>
            <a:srgbClr val="99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f5f5f"/>
                </a:solidFill>
                <a:latin typeface="Arial"/>
              </a:rPr>
              <a:t>Interest rate subsidies &amp; technical assistance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6529320" y="5038560"/>
            <a:ext cx="1224000" cy="79560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54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EUR   1.5 m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7777080" y="4218120"/>
            <a:ext cx="1116000" cy="1619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EUR 50 m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990720" y="5899320"/>
            <a:ext cx="2376360" cy="4348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EIB own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3414600" y="5899320"/>
            <a:ext cx="3095640" cy="434880"/>
          </a:xfrm>
          <a:prstGeom prst="rect">
            <a:avLst/>
          </a:prstGeom>
          <a:solidFill>
            <a:srgbClr val="99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f5f5f"/>
                </a:solidFill>
                <a:latin typeface="Arial"/>
              </a:rPr>
              <a:t>Senior loans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6548400" y="5899320"/>
            <a:ext cx="2344680" cy="4348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EUR 30 m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1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216" name="Text Box 22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3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54DB-8687-4F8A-8C99-3D8DDB498AFF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Content Placeholder 169985"/>
          <p:cNvGrpSpPr/>
          <p:nvPr/>
        </p:nvGrpSpPr>
        <p:grpSpPr>
          <a:xfrm>
            <a:off x="-200520" y="2167200"/>
            <a:ext cx="5722920" cy="4339080"/>
            <a:chOff x="-200520" y="2167200"/>
            <a:chExt cx="5722920" cy="4339080"/>
          </a:xfrm>
        </p:grpSpPr>
        <p:sp>
          <p:nvSpPr>
            <p:cNvPr id="221" name="_s1028"/>
            <p:cNvSpPr/>
            <p:nvPr/>
          </p:nvSpPr>
          <p:spPr>
            <a:xfrm>
              <a:off x="770400" y="2253240"/>
              <a:ext cx="3781080" cy="2827080"/>
            </a:xfrm>
            <a:custGeom>
              <a:avLst/>
              <a:gdLst>
                <a:gd name="textAreaLeft" fmla="*/ 0 w 3781080"/>
                <a:gd name="textAreaRight" fmla="*/ 3781440 w 3781080"/>
                <a:gd name="textAreaTop" fmla="*/ 0 h 2827080"/>
                <a:gd name="textAreaBottom" fmla="*/ 2827440 h 28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330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9"/>
            <p:cNvSpPr/>
            <p:nvPr/>
          </p:nvSpPr>
          <p:spPr>
            <a:xfrm rot="7200000">
              <a:off x="1764720" y="2446200"/>
              <a:ext cx="2827080" cy="3781080"/>
            </a:xfrm>
            <a:custGeom>
              <a:avLst/>
              <a:gdLst>
                <a:gd name="textAreaLeft" fmla="*/ 0 w 2827080"/>
                <a:gd name="textAreaRight" fmla="*/ 2827440 w 2827080"/>
                <a:gd name="textAreaTop" fmla="*/ 0 h 3781080"/>
                <a:gd name="textAreaBottom" fmla="*/ 3781440 h 37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330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30"/>
            <p:cNvSpPr/>
            <p:nvPr/>
          </p:nvSpPr>
          <p:spPr>
            <a:xfrm rot="14400000">
              <a:off x="729360" y="2446560"/>
              <a:ext cx="2827080" cy="3780720"/>
            </a:xfrm>
            <a:custGeom>
              <a:avLst/>
              <a:gdLst>
                <a:gd name="textAreaLeft" fmla="*/ 0 w 2827080"/>
                <a:gd name="textAreaRight" fmla="*/ 2827440 w 2827080"/>
                <a:gd name="textAreaTop" fmla="*/ 0 h 3780720"/>
                <a:gd name="textAreaBottom" fmla="*/ 3781080 h 378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1"/>
            <p:cNvSpPr/>
            <p:nvPr/>
          </p:nvSpPr>
          <p:spPr>
            <a:xfrm>
              <a:off x="3696120" y="2772360"/>
              <a:ext cx="1516320" cy="11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  <a:ea typeface="Times New Roman"/>
                </a:rPr>
                <a:t>Economic grow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2"/>
            <p:cNvSpPr/>
            <p:nvPr/>
          </p:nvSpPr>
          <p:spPr>
            <a:xfrm>
              <a:off x="1902600" y="5094000"/>
              <a:ext cx="1516320" cy="11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  <a:ea typeface="Times New Roman"/>
                </a:rPr>
                <a:t>Poverty re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  <a:ea typeface="Times New Roman"/>
                </a:rPr>
                <a:t>&amp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  <a:ea typeface="Times New Roman"/>
                </a:rPr>
                <a:t>Millennium Development Go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3"/>
            <p:cNvSpPr/>
            <p:nvPr/>
          </p:nvSpPr>
          <p:spPr>
            <a:xfrm>
              <a:off x="109440" y="2772360"/>
              <a:ext cx="1516320" cy="11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6040" indent="-176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  <a:ea typeface="Times New Roman"/>
                </a:rPr>
                <a:t>Private secto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  <a:ea typeface="Times New Roman"/>
                </a:rPr>
                <a:t>development, throug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buClr>
                  <a:srgbClr val="99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reign Direct Investors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buClr>
                  <a:srgbClr val="99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ocal private sect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buClr>
                  <a:srgbClr val="99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nancial sect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buClr>
                  <a:srgbClr val="99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ercialy viable public entiti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0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228" name="Text Box 11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2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13"/>
          <p:cNvSpPr/>
          <p:nvPr/>
        </p:nvSpPr>
        <p:spPr>
          <a:xfrm>
            <a:off x="971640" y="98100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The EIB Mandate &amp; the IF: Principal Objectives &amp; 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227160" y="1779480"/>
            <a:ext cx="532764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2222640" y="142884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6"/>
          <p:cNvSpPr/>
          <p:nvPr/>
        </p:nvSpPr>
        <p:spPr>
          <a:xfrm>
            <a:off x="5608800" y="1908000"/>
            <a:ext cx="287280" cy="4319640"/>
          </a:xfrm>
          <a:custGeom>
            <a:avLst/>
            <a:gdLst>
              <a:gd name="textAreaLeft" fmla="*/ 0 w 287280"/>
              <a:gd name="textAreaRight" fmla="*/ 103680 w 28728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3"/>
          <p:cNvGrpSpPr/>
          <p:nvPr/>
        </p:nvGrpSpPr>
        <p:grpSpPr>
          <a:xfrm>
            <a:off x="6018120" y="1413000"/>
            <a:ext cx="2940120" cy="368280"/>
            <a:chOff x="6018120" y="1413000"/>
            <a:chExt cx="2940120" cy="368280"/>
          </a:xfrm>
        </p:grpSpPr>
        <p:sp>
          <p:nvSpPr>
            <p:cNvPr id="235" name="Line 17"/>
            <p:cNvSpPr/>
            <p:nvPr/>
          </p:nvSpPr>
          <p:spPr>
            <a:xfrm>
              <a:off x="6018120" y="1754280"/>
              <a:ext cx="2940120" cy="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8"/>
            <p:cNvSpPr/>
            <p:nvPr/>
          </p:nvSpPr>
          <p:spPr>
            <a:xfrm>
              <a:off x="7042680" y="14130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19"/>
          <p:cNvSpPr/>
          <p:nvPr/>
        </p:nvSpPr>
        <p:spPr>
          <a:xfrm>
            <a:off x="5886360" y="206064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k-bearing instruments (value-added of the I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6804000" y="2727360"/>
            <a:ext cx="100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Loa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6804000" y="3013200"/>
            <a:ext cx="1513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Quasi-equ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2"/>
          <p:cNvSpPr/>
          <p:nvPr/>
        </p:nvSpPr>
        <p:spPr>
          <a:xfrm>
            <a:off x="6804000" y="3298680"/>
            <a:ext cx="936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Equ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3"/>
          <p:cNvSpPr/>
          <p:nvPr/>
        </p:nvSpPr>
        <p:spPr>
          <a:xfrm>
            <a:off x="6804000" y="3583080"/>
            <a:ext cx="1441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Guarante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32"/>
          <p:cNvGrpSpPr/>
          <p:nvPr/>
        </p:nvGrpSpPr>
        <p:grpSpPr>
          <a:xfrm>
            <a:off x="6018120" y="4141800"/>
            <a:ext cx="2940120" cy="368280"/>
            <a:chOff x="6018120" y="4141800"/>
            <a:chExt cx="2940120" cy="368280"/>
          </a:xfrm>
        </p:grpSpPr>
        <p:sp>
          <p:nvSpPr>
            <p:cNvPr id="243" name="Line 28"/>
            <p:cNvSpPr/>
            <p:nvPr/>
          </p:nvSpPr>
          <p:spPr>
            <a:xfrm>
              <a:off x="6018120" y="4483080"/>
              <a:ext cx="2940120" cy="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6762960" y="414180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ra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30"/>
          <p:cNvSpPr/>
          <p:nvPr/>
        </p:nvSpPr>
        <p:spPr>
          <a:xfrm>
            <a:off x="5940360" y="45813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Aft>
                <a:spcPts val="224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the long ter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sustainability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F throug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isk-pr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1"/>
          <p:cNvSpPr/>
          <p:nvPr/>
        </p:nvSpPr>
        <p:spPr>
          <a:xfrm>
            <a:off x="5940360" y="558324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Aft>
                <a:spcPts val="224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igate the risk of MS 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rantors vs. develop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127E-EBB3-4FD9-A139-1155710F8D3F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98360" y="2482920"/>
            <a:ext cx="6765840" cy="59040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36000" bIns="10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lexible / Risk-bearing Financial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(d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enominated in EUR, widely traded currencies or local currenc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251" name="Text Box 4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5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6"/>
          <p:cNvSpPr/>
          <p:nvPr/>
        </p:nvSpPr>
        <p:spPr>
          <a:xfrm>
            <a:off x="198360" y="98100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Instruments of the Investment Facility </a:t>
            </a:r>
            <a:r>
              <a:rPr b="1" lang="fr-CH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98360" y="1413000"/>
            <a:ext cx="6750000" cy="57600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 is a Revolving Fund</a:t>
            </a:r>
            <a:br>
              <a:rPr sz="1800"/>
            </a:br>
            <a:r>
              <a:rPr b="0" lang="fr-BE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(total financial resources under Cotonou: EUR 3,137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3105720" y="194004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600" spc="-1" strike="noStrike">
                <a:solidFill>
                  <a:srgbClr val="5f5f5f"/>
                </a:solidFill>
                <a:latin typeface="Arial"/>
              </a:rPr>
              <a:t>provi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9"/>
          <p:cNvSpPr/>
          <p:nvPr/>
        </p:nvSpPr>
        <p:spPr>
          <a:xfrm>
            <a:off x="3608280" y="2219400"/>
            <a:ext cx="0" cy="216000"/>
          </a:xfrm>
          <a:prstGeom prst="line">
            <a:avLst/>
          </a:prstGeom>
          <a:ln w="442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7020000" y="3068640"/>
            <a:ext cx="287280" cy="3375000"/>
          </a:xfrm>
          <a:custGeom>
            <a:avLst/>
            <a:gdLst>
              <a:gd name="textAreaLeft" fmla="*/ 0 w 287280"/>
              <a:gd name="textAreaRight" fmla="*/ 103680 w 287280"/>
              <a:gd name="textAreaTop" fmla="*/ 87840 h 3375000"/>
              <a:gd name="textAreaBottom" fmla="*/ 3287160 h 33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7456320" y="3094200"/>
            <a:ext cx="1508400" cy="3311280"/>
          </a:xfrm>
          <a:prstGeom prst="rect">
            <a:avLst/>
          </a:prstGeom>
          <a:solidFill>
            <a:srgbClr val="969696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25200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Sector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00"/>
                </a:solidFill>
                <a:latin typeface="Arial"/>
              </a:rPr>
              <a:t>requiring</a:t>
            </a:r>
            <a:r>
              <a:rPr b="0" lang="en-GB" sz="1800" spc="-1" strike="noStrike">
                <a:solidFill>
                  <a:srgbClr val="5028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3300"/>
                </a:solidFill>
                <a:latin typeface="Arial"/>
              </a:rPr>
              <a:t>risk-bearing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198360" y="3094200"/>
            <a:ext cx="6765840" cy="306360"/>
            <a:chOff x="198360" y="3094200"/>
            <a:chExt cx="6765840" cy="306360"/>
          </a:xfrm>
        </p:grpSpPr>
        <p:sp>
          <p:nvSpPr>
            <p:cNvPr id="260" name="Rectangle 13"/>
            <p:cNvSpPr/>
            <p:nvPr/>
          </p:nvSpPr>
          <p:spPr>
            <a:xfrm>
              <a:off x="485640" y="3094200"/>
              <a:ext cx="6478560" cy="30636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Direct loans / senior debt</a:t>
              </a:r>
              <a:r>
                <a:rPr b="1" lang="fr-BE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4"/>
            <p:cNvSpPr/>
            <p:nvPr/>
          </p:nvSpPr>
          <p:spPr>
            <a:xfrm>
              <a:off x="198360" y="3094200"/>
              <a:ext cx="270000" cy="30636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15"/>
          <p:cNvGrpSpPr/>
          <p:nvPr/>
        </p:nvGrpSpPr>
        <p:grpSpPr>
          <a:xfrm>
            <a:off x="198360" y="3446640"/>
            <a:ext cx="6765840" cy="306360"/>
            <a:chOff x="198360" y="3446640"/>
            <a:chExt cx="6765840" cy="306360"/>
          </a:xfrm>
        </p:grpSpPr>
        <p:sp>
          <p:nvSpPr>
            <p:cNvPr id="263" name="Rectangle 16"/>
            <p:cNvSpPr/>
            <p:nvPr/>
          </p:nvSpPr>
          <p:spPr>
            <a:xfrm>
              <a:off x="485640" y="3446640"/>
              <a:ext cx="647856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Junior / subordinated debt</a:t>
              </a:r>
              <a:r>
                <a:rPr b="1" lang="fr-BE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7"/>
            <p:cNvSpPr/>
            <p:nvPr/>
          </p:nvSpPr>
          <p:spPr>
            <a:xfrm>
              <a:off x="198360" y="3446640"/>
              <a:ext cx="27000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5f5f5f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8"/>
          <p:cNvGrpSpPr/>
          <p:nvPr/>
        </p:nvGrpSpPr>
        <p:grpSpPr>
          <a:xfrm>
            <a:off x="198360" y="3800520"/>
            <a:ext cx="6765840" cy="306360"/>
            <a:chOff x="198360" y="3800520"/>
            <a:chExt cx="6765840" cy="306360"/>
          </a:xfrm>
        </p:grpSpPr>
        <p:sp>
          <p:nvSpPr>
            <p:cNvPr id="266" name="Rectangle 19"/>
            <p:cNvSpPr/>
            <p:nvPr/>
          </p:nvSpPr>
          <p:spPr>
            <a:xfrm>
              <a:off x="485640" y="3800520"/>
              <a:ext cx="6478560" cy="30636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Intermediated Loans</a:t>
              </a:r>
              <a:r>
                <a:rPr b="1" lang="fr-BE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0"/>
            <p:cNvSpPr/>
            <p:nvPr/>
          </p:nvSpPr>
          <p:spPr>
            <a:xfrm>
              <a:off x="198360" y="3800520"/>
              <a:ext cx="270000" cy="30636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21"/>
          <p:cNvGrpSpPr/>
          <p:nvPr/>
        </p:nvGrpSpPr>
        <p:grpSpPr>
          <a:xfrm>
            <a:off x="198360" y="4152960"/>
            <a:ext cx="6765840" cy="306360"/>
            <a:chOff x="198360" y="4152960"/>
            <a:chExt cx="6765840" cy="306360"/>
          </a:xfrm>
        </p:grpSpPr>
        <p:sp>
          <p:nvSpPr>
            <p:cNvPr id="269" name="Rectangle 22"/>
            <p:cNvSpPr/>
            <p:nvPr/>
          </p:nvSpPr>
          <p:spPr>
            <a:xfrm>
              <a:off x="485640" y="4152960"/>
              <a:ext cx="647856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Quasi-equity operation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23"/>
            <p:cNvSpPr/>
            <p:nvPr/>
          </p:nvSpPr>
          <p:spPr>
            <a:xfrm>
              <a:off x="198360" y="4152960"/>
              <a:ext cx="27000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5f5f5f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24"/>
          <p:cNvGrpSpPr/>
          <p:nvPr/>
        </p:nvGrpSpPr>
        <p:grpSpPr>
          <a:xfrm>
            <a:off x="198360" y="4506840"/>
            <a:ext cx="6765840" cy="306360"/>
            <a:chOff x="198360" y="4506840"/>
            <a:chExt cx="6765840" cy="306360"/>
          </a:xfrm>
        </p:grpSpPr>
        <p:sp>
          <p:nvSpPr>
            <p:cNvPr id="272" name="Rectangle 25"/>
            <p:cNvSpPr/>
            <p:nvPr/>
          </p:nvSpPr>
          <p:spPr>
            <a:xfrm>
              <a:off x="485640" y="4506840"/>
              <a:ext cx="6478560" cy="30636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Equity Investments and Investments in Venture Capital Funds </a:t>
              </a:r>
              <a:r>
                <a:rPr b="1" lang="fr-BE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6"/>
            <p:cNvSpPr/>
            <p:nvPr/>
          </p:nvSpPr>
          <p:spPr>
            <a:xfrm>
              <a:off x="198360" y="4506840"/>
              <a:ext cx="270000" cy="30636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27"/>
          <p:cNvGrpSpPr/>
          <p:nvPr/>
        </p:nvGrpSpPr>
        <p:grpSpPr>
          <a:xfrm>
            <a:off x="198360" y="4859280"/>
            <a:ext cx="6765840" cy="306360"/>
            <a:chOff x="198360" y="4859280"/>
            <a:chExt cx="6765840" cy="306360"/>
          </a:xfrm>
        </p:grpSpPr>
        <p:sp>
          <p:nvSpPr>
            <p:cNvPr id="275" name="Rectangle 28"/>
            <p:cNvSpPr/>
            <p:nvPr/>
          </p:nvSpPr>
          <p:spPr>
            <a:xfrm>
              <a:off x="485640" y="4859280"/>
              <a:ext cx="647856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Guarantee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9"/>
            <p:cNvSpPr/>
            <p:nvPr/>
          </p:nvSpPr>
          <p:spPr>
            <a:xfrm>
              <a:off x="198360" y="4859280"/>
              <a:ext cx="27000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5f5f5f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30"/>
          <p:cNvGrpSpPr/>
          <p:nvPr/>
        </p:nvGrpSpPr>
        <p:grpSpPr>
          <a:xfrm>
            <a:off x="198360" y="5213520"/>
            <a:ext cx="6765840" cy="533160"/>
            <a:chOff x="198360" y="5213520"/>
            <a:chExt cx="6765840" cy="533160"/>
          </a:xfrm>
        </p:grpSpPr>
        <p:sp>
          <p:nvSpPr>
            <p:cNvPr id="278" name="Rectangle 31"/>
            <p:cNvSpPr/>
            <p:nvPr/>
          </p:nvSpPr>
          <p:spPr>
            <a:xfrm>
              <a:off x="485640" y="5213520"/>
              <a:ext cx="6478560" cy="53172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tabLst>
                  <a:tab algn="l" pos="0"/>
                  <a:tab algn="l" pos="447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Currencies and foreign exchange risk </a:t>
              </a:r>
              <a:br>
                <a:rPr sz="1800"/>
              </a:br>
              <a:r>
                <a:rPr b="0" lang="fr-BE" sz="1600" spc="-1" strike="noStrike">
                  <a:solidFill>
                    <a:srgbClr val="5f5f5f"/>
                  </a:solidFill>
                  <a:latin typeface="Arial"/>
                </a:rPr>
                <a:t>(widely traded currencies &amp; local currencies)</a:t>
              </a: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32"/>
            <p:cNvSpPr/>
            <p:nvPr/>
          </p:nvSpPr>
          <p:spPr>
            <a:xfrm>
              <a:off x="198360" y="5213520"/>
              <a:ext cx="270000" cy="53316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3"/>
          <p:cNvGrpSpPr/>
          <p:nvPr/>
        </p:nvGrpSpPr>
        <p:grpSpPr>
          <a:xfrm>
            <a:off x="198360" y="5792760"/>
            <a:ext cx="6765840" cy="306360"/>
            <a:chOff x="198360" y="5792760"/>
            <a:chExt cx="6765840" cy="306360"/>
          </a:xfrm>
        </p:grpSpPr>
        <p:sp>
          <p:nvSpPr>
            <p:cNvPr id="281" name="Rectangle 34"/>
            <p:cNvSpPr/>
            <p:nvPr/>
          </p:nvSpPr>
          <p:spPr>
            <a:xfrm>
              <a:off x="485640" y="5792760"/>
              <a:ext cx="647856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Interest rate subsid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35"/>
            <p:cNvSpPr/>
            <p:nvPr/>
          </p:nvSpPr>
          <p:spPr>
            <a:xfrm>
              <a:off x="198360" y="5792760"/>
              <a:ext cx="27000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5f5f5f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36"/>
          <p:cNvGrpSpPr/>
          <p:nvPr/>
        </p:nvGrpSpPr>
        <p:grpSpPr>
          <a:xfrm>
            <a:off x="198360" y="6146640"/>
            <a:ext cx="6765840" cy="306720"/>
            <a:chOff x="198360" y="6146640"/>
            <a:chExt cx="6765840" cy="306720"/>
          </a:xfrm>
        </p:grpSpPr>
        <p:sp>
          <p:nvSpPr>
            <p:cNvPr id="284" name="Rectangle 37"/>
            <p:cNvSpPr/>
            <p:nvPr/>
          </p:nvSpPr>
          <p:spPr>
            <a:xfrm>
              <a:off x="485640" y="6146640"/>
              <a:ext cx="6478560" cy="30672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Project-related technical assistan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8"/>
            <p:cNvSpPr/>
            <p:nvPr/>
          </p:nvSpPr>
          <p:spPr>
            <a:xfrm>
              <a:off x="198360" y="6146640"/>
              <a:ext cx="270000" cy="30672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5f5f5f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5A9C-41B2-4011-A15D-8A3207634246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971640" y="981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Main Objectives of EIB Mandate in the ACP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0"/>
          <p:cNvGrpSpPr/>
          <p:nvPr/>
        </p:nvGrpSpPr>
        <p:grpSpPr>
          <a:xfrm>
            <a:off x="971640" y="1557360"/>
            <a:ext cx="7921440" cy="1370160"/>
            <a:chOff x="971640" y="1557360"/>
            <a:chExt cx="7921440" cy="1370160"/>
          </a:xfrm>
        </p:grpSpPr>
        <p:grpSp>
          <p:nvGrpSpPr>
            <p:cNvPr id="290" name="Group 24"/>
            <p:cNvGrpSpPr/>
            <p:nvPr/>
          </p:nvGrpSpPr>
          <p:grpSpPr>
            <a:xfrm>
              <a:off x="971640" y="1557360"/>
              <a:ext cx="7921440" cy="1366920"/>
              <a:chOff x="971640" y="1557360"/>
              <a:chExt cx="7921440" cy="1366920"/>
            </a:xfrm>
          </p:grpSpPr>
          <p:sp>
            <p:nvSpPr>
              <p:cNvPr id="291" name="Text Box 3"/>
              <p:cNvSpPr/>
              <p:nvPr/>
            </p:nvSpPr>
            <p:spPr>
              <a:xfrm>
                <a:off x="971640" y="1557360"/>
                <a:ext cx="7921440" cy="1366920"/>
              </a:xfrm>
              <a:prstGeom prst="rect">
                <a:avLst/>
              </a:prstGeom>
              <a:solidFill>
                <a:srgbClr val="dddddd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18000" tIns="46800" bIns="46800" anchor="ctr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266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5"/>
              <p:cNvSpPr/>
              <p:nvPr/>
            </p:nvSpPr>
            <p:spPr>
              <a:xfrm>
                <a:off x="971640" y="1567080"/>
                <a:ext cx="7921440" cy="36828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993300"/>
                    </a:solidFill>
                    <a:latin typeface="Arial"/>
                  </a:rPr>
                  <a:t>Development Object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 Box 4"/>
            <p:cNvSpPr/>
            <p:nvPr/>
          </p:nvSpPr>
          <p:spPr>
            <a:xfrm>
              <a:off x="971640" y="1996920"/>
              <a:ext cx="7921440" cy="9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buSzPct val="102812"/>
                <a:buBlip>
                  <a:blip r:embed="rId1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Measure added-value of projects from an economical, environmental, social</a:t>
              </a:r>
              <a:br>
                <a:rPr sz="1600"/>
              </a:b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and governance perspective </a:t>
              </a:r>
              <a:br>
                <a:rPr sz="1600"/>
              </a:b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(Environmental and Social impact Assessment Framework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1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295" name="Text Box 22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3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47"/>
          <p:cNvGrpSpPr/>
          <p:nvPr/>
        </p:nvGrpSpPr>
        <p:grpSpPr>
          <a:xfrm>
            <a:off x="971640" y="3068640"/>
            <a:ext cx="7921440" cy="1979640"/>
            <a:chOff x="971640" y="3068640"/>
            <a:chExt cx="7921440" cy="1979640"/>
          </a:xfrm>
        </p:grpSpPr>
        <p:sp>
          <p:nvSpPr>
            <p:cNvPr id="298" name="Text Box 33"/>
            <p:cNvSpPr/>
            <p:nvPr/>
          </p:nvSpPr>
          <p:spPr>
            <a:xfrm>
              <a:off x="971640" y="3068640"/>
              <a:ext cx="7921440" cy="197964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34"/>
            <p:cNvSpPr/>
            <p:nvPr/>
          </p:nvSpPr>
          <p:spPr>
            <a:xfrm>
              <a:off x="971640" y="3068640"/>
              <a:ext cx="7921440" cy="368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3300"/>
                  </a:solidFill>
                  <a:latin typeface="Arial"/>
                </a:rPr>
                <a:t>Complementarit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35"/>
            <p:cNvSpPr/>
            <p:nvPr/>
          </p:nvSpPr>
          <p:spPr>
            <a:xfrm>
              <a:off x="971640" y="3500640"/>
              <a:ext cx="7921440" cy="66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36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buSzPct val="102812"/>
                <a:buBlip>
                  <a:blip r:embed="rId2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Blending with operations and instruments of the EU, bilateral and 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multilateral institutions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7"/>
            <p:cNvSpPr/>
            <p:nvPr/>
          </p:nvSpPr>
          <p:spPr>
            <a:xfrm>
              <a:off x="971640" y="4132440"/>
              <a:ext cx="79214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Pacific Regional Infrastructure Facility (PRIF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001"/>
                </a:spcBef>
                <a:buSzPct val="102837"/>
                <a:buBlip>
                  <a:blip r:embed="rId4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EU’s Investment Facility for the Pacific (IFP)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45"/>
          <p:cNvGrpSpPr/>
          <p:nvPr/>
        </p:nvGrpSpPr>
        <p:grpSpPr>
          <a:xfrm>
            <a:off x="971640" y="5157720"/>
            <a:ext cx="7921440" cy="1224000"/>
            <a:chOff x="971640" y="5157720"/>
            <a:chExt cx="7921440" cy="1224000"/>
          </a:xfrm>
        </p:grpSpPr>
        <p:sp>
          <p:nvSpPr>
            <p:cNvPr id="303" name="Text Box 43"/>
            <p:cNvSpPr/>
            <p:nvPr/>
          </p:nvSpPr>
          <p:spPr>
            <a:xfrm>
              <a:off x="971640" y="5157720"/>
              <a:ext cx="7921440" cy="1224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40"/>
            <p:cNvSpPr/>
            <p:nvPr/>
          </p:nvSpPr>
          <p:spPr>
            <a:xfrm>
              <a:off x="971640" y="5157720"/>
              <a:ext cx="7921440" cy="368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3300"/>
                  </a:solidFill>
                  <a:latin typeface="Arial"/>
                </a:rPr>
                <a:t>Cataly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41"/>
            <p:cNvSpPr/>
            <p:nvPr/>
          </p:nvSpPr>
          <p:spPr>
            <a:xfrm>
              <a:off x="971640" y="5572080"/>
              <a:ext cx="7921440" cy="66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36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buSzPct val="102812"/>
                <a:buBlip>
                  <a:blip r:embed="rId5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Play a catalytic role in mobilising local resources and encouraging foreign 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lending and investment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AE82-3BB8-4045-AC4D-49B3711441AE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6"/>
          <p:cNvGrpSpPr/>
          <p:nvPr/>
        </p:nvGrpSpPr>
        <p:grpSpPr>
          <a:xfrm>
            <a:off x="971640" y="1557360"/>
            <a:ext cx="7921440" cy="2087280"/>
            <a:chOff x="971640" y="1557360"/>
            <a:chExt cx="7921440" cy="2087280"/>
          </a:xfrm>
        </p:grpSpPr>
        <p:grpSp>
          <p:nvGrpSpPr>
            <p:cNvPr id="309" name="Group 11"/>
            <p:cNvGrpSpPr/>
            <p:nvPr/>
          </p:nvGrpSpPr>
          <p:grpSpPr>
            <a:xfrm>
              <a:off x="971640" y="1557360"/>
              <a:ext cx="7921440" cy="2087280"/>
              <a:chOff x="971640" y="1557360"/>
              <a:chExt cx="7921440" cy="2087280"/>
            </a:xfrm>
          </p:grpSpPr>
          <p:sp>
            <p:nvSpPr>
              <p:cNvPr id="310" name="Text Box 12"/>
              <p:cNvSpPr/>
              <p:nvPr/>
            </p:nvSpPr>
            <p:spPr>
              <a:xfrm>
                <a:off x="971640" y="1557360"/>
                <a:ext cx="7921440" cy="2087280"/>
              </a:xfrm>
              <a:prstGeom prst="rect">
                <a:avLst/>
              </a:prstGeom>
              <a:solidFill>
                <a:srgbClr val="dddddd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18000" tIns="46800" bIns="46800" anchor="ctr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266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13"/>
              <p:cNvSpPr/>
              <p:nvPr/>
            </p:nvSpPr>
            <p:spPr>
              <a:xfrm>
                <a:off x="971640" y="1572480"/>
                <a:ext cx="7921440" cy="36828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993300"/>
                    </a:solidFill>
                    <a:latin typeface="Arial"/>
                  </a:rPr>
                  <a:t>Available to increase concessionality f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Text Box 14"/>
            <p:cNvSpPr/>
            <p:nvPr/>
          </p:nvSpPr>
          <p:spPr>
            <a:xfrm>
              <a:off x="971640" y="1996920"/>
              <a:ext cx="7921440" cy="15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46800" bIns="46800" anchor="t">
              <a:spAutoFit/>
            </a:bodyPr>
            <a:p>
              <a:pPr marL="361800" indent="-361800">
                <a:spcBef>
                  <a:spcPts val="451"/>
                </a:spcBef>
                <a:buClr>
                  <a:srgbClr val="993300"/>
                </a:buClr>
                <a:buFont typeface="Wingdings" charset="2"/>
                <a:buChar char=""/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frastructure projects in Least Developed Countries, post-conflict and post-natural disaster countries, HIPC count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61800" indent="-361800">
                <a:spcBef>
                  <a:spcPts val="451"/>
                </a:spcBef>
                <a:buClr>
                  <a:srgbClr val="993300"/>
                </a:buClr>
                <a:buFont typeface="Wingdings" charset="2"/>
                <a:buChar char=""/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jects with substantial and clearly demonstrable environmental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 social bene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61800" indent="-361800">
                <a:spcBef>
                  <a:spcPts val="451"/>
                </a:spcBef>
                <a:buClr>
                  <a:srgbClr val="993300"/>
                </a:buClr>
                <a:buFont typeface="Wingdings" charset="2"/>
                <a:buChar char=""/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restructuring operations in the framework of privatis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5"/>
          <p:cNvSpPr/>
          <p:nvPr/>
        </p:nvSpPr>
        <p:spPr>
          <a:xfrm>
            <a:off x="1547640" y="5157720"/>
            <a:ext cx="734544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Between 2003 and 2012, 45 projects benefited from over EUR 330 M in interest rate subsidies in the ACPs and O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6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315" name="Text Box 7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8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 Box 9"/>
          <p:cNvSpPr/>
          <p:nvPr/>
        </p:nvSpPr>
        <p:spPr>
          <a:xfrm>
            <a:off x="971640" y="981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Interest Rate Subsidi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8"/>
          <p:cNvGrpSpPr/>
          <p:nvPr/>
        </p:nvGrpSpPr>
        <p:grpSpPr>
          <a:xfrm>
            <a:off x="971640" y="3789360"/>
            <a:ext cx="7921440" cy="1141200"/>
            <a:chOff x="971640" y="3789360"/>
            <a:chExt cx="7921440" cy="1141200"/>
          </a:xfrm>
        </p:grpSpPr>
        <p:sp>
          <p:nvSpPr>
            <p:cNvPr id="319" name="Text Box 19"/>
            <p:cNvSpPr/>
            <p:nvPr/>
          </p:nvSpPr>
          <p:spPr>
            <a:xfrm>
              <a:off x="971640" y="3789360"/>
              <a:ext cx="7921440" cy="1141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971640" y="3802320"/>
              <a:ext cx="7921440" cy="368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3300"/>
                  </a:solidFill>
                  <a:latin typeface="Arial"/>
                </a:rPr>
                <a:t>General rules app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21"/>
          <p:cNvSpPr/>
          <p:nvPr/>
        </p:nvSpPr>
        <p:spPr>
          <a:xfrm>
            <a:off x="971640" y="4229280"/>
            <a:ext cx="7921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 marL="361800" indent="-36180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36180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est rate subsidy: maximum 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36180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al rate of loan: cannot be less than 50% of the reference 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2"/>
          <p:cNvSpPr/>
          <p:nvPr/>
        </p:nvSpPr>
        <p:spPr>
          <a:xfrm>
            <a:off x="1042920" y="5299200"/>
            <a:ext cx="360360" cy="360360"/>
          </a:xfrm>
          <a:custGeom>
            <a:avLst/>
            <a:gdLst>
              <a:gd name="textAreaLeft" fmla="*/ 56160 w 360360"/>
              <a:gd name="textAreaRight" fmla="*/ 315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210A-8743-4DBF-92BB-71ACACD9691D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0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326" name="Text Box 11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2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3"/>
          <p:cNvSpPr/>
          <p:nvPr/>
        </p:nvSpPr>
        <p:spPr>
          <a:xfrm>
            <a:off x="971640" y="98100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Technical As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971640" y="2041560"/>
            <a:ext cx="676908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1"/>
          <p:cNvSpPr/>
          <p:nvPr/>
        </p:nvSpPr>
        <p:spPr>
          <a:xfrm>
            <a:off x="1042920" y="3481560"/>
            <a:ext cx="496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ing project quality and success-r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2"/>
          <p:cNvSpPr/>
          <p:nvPr/>
        </p:nvSpPr>
        <p:spPr>
          <a:xfrm>
            <a:off x="1042920" y="3767040"/>
            <a:ext cx="605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ing the efficiency of EIB’s investment activ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3"/>
          <p:cNvSpPr/>
          <p:nvPr/>
        </p:nvSpPr>
        <p:spPr>
          <a:xfrm>
            <a:off x="1042920" y="4052880"/>
            <a:ext cx="597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menting other EIB produ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0"/>
          <p:cNvSpPr/>
          <p:nvPr/>
        </p:nvSpPr>
        <p:spPr>
          <a:xfrm>
            <a:off x="971640" y="1341360"/>
            <a:ext cx="6750000" cy="57636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 to EUR 40 m (ACPs) and 0.15 m (O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Over the 2008-2013 period to prov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2"/>
          <p:cNvSpPr/>
          <p:nvPr/>
        </p:nvSpPr>
        <p:spPr>
          <a:xfrm>
            <a:off x="4356000" y="2133720"/>
            <a:ext cx="0" cy="215640"/>
          </a:xfrm>
          <a:prstGeom prst="line">
            <a:avLst/>
          </a:prstGeom>
          <a:ln w="442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5"/>
          <p:cNvSpPr/>
          <p:nvPr/>
        </p:nvSpPr>
        <p:spPr>
          <a:xfrm>
            <a:off x="971640" y="2421000"/>
            <a:ext cx="6765840" cy="59040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36000" bIns="10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-related technical assistance grant funding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vering the whole project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8"/>
          <p:cNvSpPr/>
          <p:nvPr/>
        </p:nvSpPr>
        <p:spPr>
          <a:xfrm>
            <a:off x="1044720" y="306864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4"/>
          <p:cNvSpPr/>
          <p:nvPr/>
        </p:nvSpPr>
        <p:spPr>
          <a:xfrm>
            <a:off x="1045440" y="43848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9"/>
          <p:cNvSpPr/>
          <p:nvPr/>
        </p:nvSpPr>
        <p:spPr>
          <a:xfrm>
            <a:off x="1042920" y="5305320"/>
            <a:ext cx="676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ina River Hydropower Development Project – SI (EUR 0.95 M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0"/>
          <p:cNvSpPr/>
          <p:nvPr/>
        </p:nvSpPr>
        <p:spPr>
          <a:xfrm>
            <a:off x="1042920" y="5594400"/>
            <a:ext cx="605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SME Access to Finance Facility in the Pacific (EUR 1 M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1"/>
          <p:cNvSpPr/>
          <p:nvPr/>
        </p:nvSpPr>
        <p:spPr>
          <a:xfrm>
            <a:off x="1042920" y="5884920"/>
            <a:ext cx="597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WPPF TA Project – Samoa (EUR 0.25 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5"/>
          <p:cNvSpPr/>
          <p:nvPr/>
        </p:nvSpPr>
        <p:spPr>
          <a:xfrm>
            <a:off x="1042920" y="6173640"/>
            <a:ext cx="597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WPPF TA Project – Cook Islands (EUR 0.15 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6"/>
          <p:cNvSpPr/>
          <p:nvPr/>
        </p:nvSpPr>
        <p:spPr>
          <a:xfrm>
            <a:off x="971640" y="4724280"/>
            <a:ext cx="676908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8"/>
          <p:cNvSpPr/>
          <p:nvPr/>
        </p:nvSpPr>
        <p:spPr>
          <a:xfrm>
            <a:off x="971640" y="3429000"/>
            <a:ext cx="676908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1042920" y="4724280"/>
            <a:ext cx="676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acific Regional Financial Sector Review (EUR 0.5 M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9"/>
          <p:cNvSpPr/>
          <p:nvPr/>
        </p:nvSpPr>
        <p:spPr>
          <a:xfrm>
            <a:off x="1042920" y="5014800"/>
            <a:ext cx="676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Aviation TA – Samoa and Cook Islands (EUR 0.85 M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459A-A05F-448F-8AAD-989A22694F9F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971640" y="981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The Financial Amounts under the 11</a:t>
            </a:r>
            <a:r>
              <a:rPr b="1" lang="en-GB" sz="18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EDF for the EIB Operations in the ACP/OCT Countries for the period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30"/>
          <p:cNvGrpSpPr/>
          <p:nvPr/>
        </p:nvGrpSpPr>
        <p:grpSpPr>
          <a:xfrm>
            <a:off x="971640" y="1973160"/>
            <a:ext cx="7921440" cy="1455840"/>
            <a:chOff x="971640" y="1973160"/>
            <a:chExt cx="7921440" cy="1455840"/>
          </a:xfrm>
        </p:grpSpPr>
        <p:grpSp>
          <p:nvGrpSpPr>
            <p:cNvPr id="350" name="Group 24"/>
            <p:cNvGrpSpPr/>
            <p:nvPr/>
          </p:nvGrpSpPr>
          <p:grpSpPr>
            <a:xfrm>
              <a:off x="971640" y="1973160"/>
              <a:ext cx="7921440" cy="1455840"/>
              <a:chOff x="971640" y="1973160"/>
              <a:chExt cx="7921440" cy="1455840"/>
            </a:xfrm>
          </p:grpSpPr>
          <p:sp>
            <p:nvSpPr>
              <p:cNvPr id="351" name="Text Box 3"/>
              <p:cNvSpPr/>
              <p:nvPr/>
            </p:nvSpPr>
            <p:spPr>
              <a:xfrm>
                <a:off x="971640" y="1973160"/>
                <a:ext cx="7921440" cy="1455840"/>
              </a:xfrm>
              <a:prstGeom prst="rect">
                <a:avLst/>
              </a:prstGeom>
              <a:solidFill>
                <a:srgbClr val="dddddd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18000" tIns="46800" bIns="46800" anchor="ctr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266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5"/>
              <p:cNvSpPr/>
              <p:nvPr/>
            </p:nvSpPr>
            <p:spPr>
              <a:xfrm>
                <a:off x="971640" y="1982880"/>
                <a:ext cx="7921440" cy="36828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993300"/>
                    </a:solidFill>
                    <a:latin typeface="Arial"/>
                  </a:rPr>
                  <a:t>Investment Facil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4"/>
            <p:cNvSpPr/>
            <p:nvPr/>
          </p:nvSpPr>
          <p:spPr>
            <a:xfrm>
              <a:off x="971640" y="2412720"/>
              <a:ext cx="792144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46800" bIns="46800" anchor="t">
              <a:spAutoFit/>
            </a:bodyPr>
            <a:p>
              <a:pPr>
                <a:lnSpc>
                  <a:spcPct val="110000"/>
                </a:lnSpc>
                <a:spcAft>
                  <a:spcPts val="601"/>
                </a:spcAft>
                <a:buSzPct val="102812"/>
                <a:buBlip>
                  <a:blip r:embed="rId1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New endowment of EUR 500 M dedicated to Impact Investing (higher risks for  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more development), bringing total endowments to </a:t>
              </a:r>
              <a:r>
                <a:rPr b="1" lang="en-GB" sz="1600" spc="-1" strike="noStrike" u="sng">
                  <a:solidFill>
                    <a:srgbClr val="4d4d4d"/>
                  </a:solidFill>
                  <a:uFillTx/>
                  <a:latin typeface="Arial"/>
                </a:rPr>
                <a:t>EUR 3.637 b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Aft>
                  <a:spcPts val="601"/>
                </a:spcAft>
                <a:buSzPct val="102837"/>
                <a:buBlip>
                  <a:blip r:embed="rId2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No refill for O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21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355" name="Text Box 22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3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7"/>
          <p:cNvGrpSpPr/>
          <p:nvPr/>
        </p:nvGrpSpPr>
        <p:grpSpPr>
          <a:xfrm>
            <a:off x="971640" y="3575160"/>
            <a:ext cx="7921440" cy="1222200"/>
            <a:chOff x="971640" y="3575160"/>
            <a:chExt cx="7921440" cy="1222200"/>
          </a:xfrm>
        </p:grpSpPr>
        <p:sp>
          <p:nvSpPr>
            <p:cNvPr id="358" name="Text Box 33"/>
            <p:cNvSpPr/>
            <p:nvPr/>
          </p:nvSpPr>
          <p:spPr>
            <a:xfrm>
              <a:off x="971640" y="3575160"/>
              <a:ext cx="7921440" cy="1222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971640" y="3575160"/>
              <a:ext cx="7921440" cy="368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3300"/>
                  </a:solidFill>
                  <a:latin typeface="Arial"/>
                </a:rPr>
                <a:t>Subsid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971640" y="4006800"/>
              <a:ext cx="79214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36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EUR 634 M, of which 15% can be allocated to 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001"/>
                </a:spcBef>
                <a:buSzPct val="102837"/>
                <a:buBlip>
                  <a:blip r:embed="rId4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EUR 5 M for O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45"/>
          <p:cNvGrpSpPr/>
          <p:nvPr/>
        </p:nvGrpSpPr>
        <p:grpSpPr>
          <a:xfrm>
            <a:off x="971640" y="4941720"/>
            <a:ext cx="7921440" cy="1224000"/>
            <a:chOff x="971640" y="4941720"/>
            <a:chExt cx="7921440" cy="1224000"/>
          </a:xfrm>
        </p:grpSpPr>
        <p:sp>
          <p:nvSpPr>
            <p:cNvPr id="362" name="Text Box 43"/>
            <p:cNvSpPr/>
            <p:nvPr/>
          </p:nvSpPr>
          <p:spPr>
            <a:xfrm>
              <a:off x="971640" y="4941720"/>
              <a:ext cx="7921440" cy="1224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40"/>
            <p:cNvSpPr/>
            <p:nvPr/>
          </p:nvSpPr>
          <p:spPr>
            <a:xfrm>
              <a:off x="971640" y="4941720"/>
              <a:ext cx="7921440" cy="368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3300"/>
                  </a:solidFill>
                  <a:latin typeface="Arial"/>
                </a:rPr>
                <a:t>EIB Own Resourc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41"/>
            <p:cNvSpPr/>
            <p:nvPr/>
          </p:nvSpPr>
          <p:spPr>
            <a:xfrm>
              <a:off x="971640" y="5356080"/>
              <a:ext cx="79214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36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buSzPct val="102812"/>
                <a:buBlip>
                  <a:blip r:embed="rId5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 u="sng">
                  <a:solidFill>
                    <a:srgbClr val="4d4d4d"/>
                  </a:solidFill>
                  <a:uFillTx/>
                  <a:latin typeface="Arial"/>
                </a:rPr>
                <a:t>EUR 2.5 bn 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and a possible increase to be decided at a mid-term revie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001"/>
                </a:spcBef>
                <a:buSzPct val="102837"/>
                <a:buBlip>
                  <a:blip r:embed="rId6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EUR 100 M allocated to O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57D7-C9A7-4562-BAA1-A68588855672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4" descr="carpaclogo1"/>
          <p:cNvPicPr/>
          <p:nvPr/>
        </p:nvPicPr>
        <p:blipFill>
          <a:blip r:embed="rId1"/>
          <a:stretch/>
        </p:blipFill>
        <p:spPr>
          <a:xfrm>
            <a:off x="127080" y="4525920"/>
            <a:ext cx="8916840" cy="19512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66cc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369" name="Group 3"/>
          <p:cNvGrpSpPr/>
          <p:nvPr/>
        </p:nvGrpSpPr>
        <p:grpSpPr>
          <a:xfrm>
            <a:off x="971640" y="1844640"/>
            <a:ext cx="6335640" cy="368280"/>
            <a:chOff x="971640" y="1844640"/>
            <a:chExt cx="6335640" cy="368280"/>
          </a:xfrm>
        </p:grpSpPr>
        <p:sp>
          <p:nvSpPr>
            <p:cNvPr id="370" name="Text Box 4"/>
            <p:cNvSpPr/>
            <p:nvPr/>
          </p:nvSpPr>
          <p:spPr>
            <a:xfrm>
              <a:off x="971640" y="18478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5"/>
            <p:cNvSpPr/>
            <p:nvPr/>
          </p:nvSpPr>
          <p:spPr>
            <a:xfrm>
              <a:off x="1619280" y="18446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6"/>
          <p:cNvGrpSpPr/>
          <p:nvPr/>
        </p:nvGrpSpPr>
        <p:grpSpPr>
          <a:xfrm>
            <a:off x="971640" y="2516040"/>
            <a:ext cx="6335640" cy="368280"/>
            <a:chOff x="971640" y="2516040"/>
            <a:chExt cx="6335640" cy="368280"/>
          </a:xfrm>
        </p:grpSpPr>
        <p:sp>
          <p:nvSpPr>
            <p:cNvPr id="373" name="Text Box 7"/>
            <p:cNvSpPr/>
            <p:nvPr/>
          </p:nvSpPr>
          <p:spPr>
            <a:xfrm>
              <a:off x="971640" y="25192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8"/>
            <p:cNvSpPr/>
            <p:nvPr/>
          </p:nvSpPr>
          <p:spPr>
            <a:xfrm>
              <a:off x="1619280" y="25160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9"/>
          <p:cNvGrpSpPr/>
          <p:nvPr/>
        </p:nvGrpSpPr>
        <p:grpSpPr>
          <a:xfrm>
            <a:off x="971640" y="3187800"/>
            <a:ext cx="6335640" cy="368280"/>
            <a:chOff x="971640" y="3187800"/>
            <a:chExt cx="6335640" cy="368280"/>
          </a:xfrm>
        </p:grpSpPr>
        <p:sp>
          <p:nvSpPr>
            <p:cNvPr id="376" name="Text Box 10"/>
            <p:cNvSpPr/>
            <p:nvPr/>
          </p:nvSpPr>
          <p:spPr>
            <a:xfrm>
              <a:off x="971640" y="3190680"/>
              <a:ext cx="360360" cy="3600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1"/>
            <p:cNvSpPr/>
            <p:nvPr/>
          </p:nvSpPr>
          <p:spPr>
            <a:xfrm>
              <a:off x="1619280" y="318780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66cc"/>
                  </a:solidFill>
                  <a:latin typeface="Arial"/>
                </a:rPr>
                <a:t>EIB Activities in the Pacific Reg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12"/>
          <p:cNvSpPr/>
          <p:nvPr/>
        </p:nvSpPr>
        <p:spPr>
          <a:xfrm>
            <a:off x="971640" y="3863880"/>
            <a:ext cx="360360" cy="360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1619280" y="386064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Arial"/>
              </a:rPr>
              <a:t>Cooperation with EC, other EU Institutions and Membe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5"/>
          <p:cNvSpPr/>
          <p:nvPr/>
        </p:nvSpPr>
        <p:spPr>
          <a:xfrm>
            <a:off x="468360" y="321156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A408-8DB7-453B-BC23-34D5C9F42B55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66cc"/>
                </a:solidFill>
                <a:latin typeface="Arial"/>
              </a:rPr>
              <a:t>Briefing Contents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56" name="Group 6"/>
          <p:cNvGrpSpPr/>
          <p:nvPr/>
        </p:nvGrpSpPr>
        <p:grpSpPr>
          <a:xfrm>
            <a:off x="971640" y="1844640"/>
            <a:ext cx="6335640" cy="368280"/>
            <a:chOff x="971640" y="1844640"/>
            <a:chExt cx="6335640" cy="368280"/>
          </a:xfrm>
        </p:grpSpPr>
        <p:sp>
          <p:nvSpPr>
            <p:cNvPr id="57" name="Text Box 4"/>
            <p:cNvSpPr/>
            <p:nvPr/>
          </p:nvSpPr>
          <p:spPr>
            <a:xfrm>
              <a:off x="971640" y="18478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5"/>
            <p:cNvSpPr/>
            <p:nvPr/>
          </p:nvSpPr>
          <p:spPr>
            <a:xfrm>
              <a:off x="1619280" y="18446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971640" y="2516040"/>
            <a:ext cx="6335640" cy="368280"/>
            <a:chOff x="971640" y="2516040"/>
            <a:chExt cx="6335640" cy="368280"/>
          </a:xfrm>
        </p:grpSpPr>
        <p:sp>
          <p:nvSpPr>
            <p:cNvPr id="60" name="Text Box 8"/>
            <p:cNvSpPr/>
            <p:nvPr/>
          </p:nvSpPr>
          <p:spPr>
            <a:xfrm>
              <a:off x="971640" y="25192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9"/>
            <p:cNvSpPr/>
            <p:nvPr/>
          </p:nvSpPr>
          <p:spPr>
            <a:xfrm>
              <a:off x="1619280" y="25160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971640" y="3187800"/>
            <a:ext cx="6335640" cy="368280"/>
            <a:chOff x="971640" y="3187800"/>
            <a:chExt cx="6335640" cy="368280"/>
          </a:xfrm>
        </p:grpSpPr>
        <p:sp>
          <p:nvSpPr>
            <p:cNvPr id="63" name="Text Box 11"/>
            <p:cNvSpPr/>
            <p:nvPr/>
          </p:nvSpPr>
          <p:spPr>
            <a:xfrm>
              <a:off x="971640" y="3190680"/>
              <a:ext cx="360360" cy="3600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2"/>
            <p:cNvSpPr/>
            <p:nvPr/>
          </p:nvSpPr>
          <p:spPr>
            <a:xfrm>
              <a:off x="1619280" y="318780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66cc"/>
                  </a:solidFill>
                  <a:latin typeface="Arial"/>
                </a:rPr>
                <a:t>EIB Activities in the Pacific Reg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4"/>
          <p:cNvSpPr/>
          <p:nvPr/>
        </p:nvSpPr>
        <p:spPr>
          <a:xfrm>
            <a:off x="971640" y="3863880"/>
            <a:ext cx="360360" cy="360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1619280" y="386064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Arial"/>
              </a:rPr>
              <a:t>Cooperation with EC, other EU Institutions and Membe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6" descr="carpaclogo1"/>
          <p:cNvPicPr/>
          <p:nvPr/>
        </p:nvPicPr>
        <p:blipFill>
          <a:blip r:embed="rId1"/>
          <a:stretch/>
        </p:blipFill>
        <p:spPr>
          <a:xfrm>
            <a:off x="127080" y="4525920"/>
            <a:ext cx="891684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A8DE-42F7-476E-8072-EA9D5072AD4F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Object 35"/>
          <p:cNvGraphicFramePr/>
          <p:nvPr/>
        </p:nvGraphicFramePr>
        <p:xfrm>
          <a:off x="1260360" y="3476520"/>
          <a:ext cx="7201080" cy="303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4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3476520"/>
                    <a:ext cx="7201080" cy="30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5" name="Group 2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386" name="Text Box 3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cc"/>
                  </a:solidFill>
                  <a:latin typeface="Arial"/>
                </a:rPr>
                <a:t>EIB Activities in the Pacif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 Box 5"/>
          <p:cNvSpPr/>
          <p:nvPr/>
        </p:nvSpPr>
        <p:spPr>
          <a:xfrm>
            <a:off x="971640" y="98100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Facts &amp; Figures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971640" y="1514520"/>
            <a:ext cx="777708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19 beneficiary countries and terr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971640" y="1920960"/>
            <a:ext cx="777708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Total of loans and equity ≈ EUR 600 m (or AUD 900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971640" y="2338560"/>
            <a:ext cx="7777080" cy="64260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1125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Close cooperation with other donors:</a:t>
            </a:r>
            <a:br>
              <a:rPr sz="1800"/>
            </a:b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World Bank/IFC, ADB, AusAID, NZAID &amp; and EC where 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4"/>
          <p:cNvSpPr/>
          <p:nvPr/>
        </p:nvSpPr>
        <p:spPr>
          <a:xfrm>
            <a:off x="971640" y="3040200"/>
            <a:ext cx="777708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Over 100 contracts to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2592360" y="36133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3300"/>
                </a:solidFill>
                <a:latin typeface="Arial"/>
              </a:rPr>
              <a:t>Total signed amounts by cou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28"/>
          <p:cNvGrpSpPr/>
          <p:nvPr/>
        </p:nvGrpSpPr>
        <p:grpSpPr>
          <a:xfrm>
            <a:off x="971640" y="3486240"/>
            <a:ext cx="7777080" cy="215640"/>
            <a:chOff x="971640" y="3486240"/>
            <a:chExt cx="7777080" cy="215640"/>
          </a:xfrm>
        </p:grpSpPr>
        <p:sp>
          <p:nvSpPr>
            <p:cNvPr id="395" name="Line 29"/>
            <p:cNvSpPr/>
            <p:nvPr/>
          </p:nvSpPr>
          <p:spPr>
            <a:xfrm>
              <a:off x="971640" y="3486240"/>
              <a:ext cx="777708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30"/>
            <p:cNvSpPr/>
            <p:nvPr/>
          </p:nvSpPr>
          <p:spPr>
            <a:xfrm>
              <a:off x="4716360" y="3486240"/>
              <a:ext cx="0" cy="215640"/>
            </a:xfrm>
            <a:prstGeom prst="line">
              <a:avLst/>
            </a:prstGeom>
            <a:ln w="31680">
              <a:solidFill>
                <a:srgbClr val="99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31" descr=""/>
          <p:cNvPicPr/>
          <p:nvPr/>
        </p:nvPicPr>
        <p:blipFill>
          <a:blip r:embed="rId1"/>
          <a:stretch/>
        </p:blipFill>
        <p:spPr>
          <a:xfrm>
            <a:off x="395280" y="1373040"/>
            <a:ext cx="4464000" cy="2611440"/>
          </a:xfrm>
          <a:prstGeom prst="rect">
            <a:avLst/>
          </a:prstGeom>
          <a:ln w="0">
            <a:noFill/>
          </a:ln>
        </p:spPr>
      </p:pic>
      <p:sp>
        <p:nvSpPr>
          <p:cNvPr id="398" name="Footer Placeholder 5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6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65D4-88B7-4D56-B698-B6AFF2BDD764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04640" y="3803760"/>
            <a:ext cx="759960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verage Annual Lending since 2001 – EUR 4.6M</a:t>
            </a:r>
            <a:endParaRPr b="0" lang="en-US" sz="1200" spc="-1" strike="noStrike" u="sng">
              <a:solidFill>
                <a:srgbClr val="993300"/>
              </a:solidFill>
              <a:uFillTx/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Y 2010 Lending = EUR 24.0M in 4 operations</a:t>
            </a:r>
            <a:endParaRPr b="0" lang="en-US" sz="1200" spc="-1" strike="noStrike" u="sng">
              <a:solidFill>
                <a:srgbClr val="993300"/>
              </a:solidFill>
              <a:uFillTx/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FY 2011 – 4 operations cancelled</a:t>
            </a:r>
            <a:endParaRPr b="0" lang="en-US" sz="1200" spc="-1" strike="noStrike" u="sng">
              <a:solidFill>
                <a:srgbClr val="993300"/>
              </a:solidFill>
              <a:uFillTx/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Tonga Solar  (post-appraisal) – government change of approach</a:t>
            </a:r>
            <a:endParaRPr b="0" lang="en-US" sz="12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NG Bemobile (apprasial) – weak sponsor</a:t>
            </a:r>
            <a:endParaRPr b="0" lang="en-US" sz="12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Vanuatu Submarine Cable  (pre-appraisal) – IG investigation, sponsor withdrew</a:t>
            </a:r>
            <a:endParaRPr b="0" lang="en-US" sz="12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ook Islands Water &amp; Sanitation  (feasibility studies) – government change of approach </a:t>
            </a:r>
            <a:endParaRPr b="0" lang="en-US" sz="1200" spc="-1" strike="noStrike">
              <a:solidFill>
                <a:srgbClr val="0066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FY 2012/13</a:t>
            </a:r>
            <a:endParaRPr b="0" lang="en-US" sz="1200" spc="-1" strike="noStrike" u="sng">
              <a:solidFill>
                <a:srgbClr val="993300"/>
              </a:solidFill>
              <a:uFillTx/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Tahiti Centre Hospitalier SWAC – Signed EUR 8.0M (MRI led by AFD)</a:t>
            </a:r>
            <a:endParaRPr b="0" lang="en-US" sz="12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Banque de Tahiti GL – Signed EUR 8.0M disbursment pending</a:t>
            </a:r>
            <a:endParaRPr b="0" lang="en-US" sz="12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ocredo GL VI – Signed EUR 32.5M</a:t>
            </a:r>
            <a:endParaRPr b="0" lang="en-US" sz="1200" spc="-1" strike="noStrike">
              <a:solidFill>
                <a:srgbClr val="0066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rent portfolio of 47 active operations (11 regional, 36 national)</a:t>
            </a:r>
            <a:endParaRPr b="0" lang="en-US" sz="12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grpSp>
        <p:nvGrpSpPr>
          <p:cNvPr id="401" name="Group 56"/>
          <p:cNvGrpSpPr/>
          <p:nvPr/>
        </p:nvGrpSpPr>
        <p:grpSpPr>
          <a:xfrm>
            <a:off x="5591520" y="1477800"/>
            <a:ext cx="3152880" cy="2864520"/>
            <a:chOff x="5591520" y="1477800"/>
            <a:chExt cx="3152880" cy="2864520"/>
          </a:xfrm>
        </p:grpSpPr>
        <p:grpSp>
          <p:nvGrpSpPr>
            <p:cNvPr id="402" name="Group 57"/>
            <p:cNvGrpSpPr/>
            <p:nvPr/>
          </p:nvGrpSpPr>
          <p:grpSpPr>
            <a:xfrm>
              <a:off x="5591520" y="1615680"/>
              <a:ext cx="2189160" cy="2618640"/>
              <a:chOff x="5591520" y="1615680"/>
              <a:chExt cx="2189160" cy="2618640"/>
            </a:xfrm>
          </p:grpSpPr>
          <p:sp>
            <p:nvSpPr>
              <p:cNvPr id="403" name="Freeform 58"/>
              <p:cNvSpPr/>
              <p:nvPr/>
            </p:nvSpPr>
            <p:spPr>
              <a:xfrm rot="3500400">
                <a:off x="6687360" y="2879640"/>
                <a:ext cx="722160" cy="656640"/>
              </a:xfrm>
              <a:custGeom>
                <a:avLst/>
                <a:gdLst/>
                <a:ahLst/>
                <a:rect l="l" t="t" r="r" b="b"/>
                <a:pathLst>
                  <a:path w="715" h="680">
                    <a:moveTo>
                      <a:pt x="0" y="291"/>
                    </a:moveTo>
                    <a:lnTo>
                      <a:pt x="715" y="0"/>
                    </a:lnTo>
                    <a:lnTo>
                      <a:pt x="715" y="389"/>
                    </a:lnTo>
                    <a:lnTo>
                      <a:pt x="0" y="680"/>
                    </a:lnTo>
                    <a:lnTo>
                      <a:pt x="0" y="291"/>
                    </a:lnTo>
                    <a:close/>
                  </a:path>
                </a:pathLst>
              </a:custGeom>
              <a:solidFill>
                <a:srgbClr val="6680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59"/>
              <p:cNvSpPr/>
              <p:nvPr/>
            </p:nvSpPr>
            <p:spPr>
              <a:xfrm rot="3500400">
                <a:off x="6877440" y="2913840"/>
                <a:ext cx="722160" cy="352800"/>
              </a:xfrm>
              <a:custGeom>
                <a:avLst/>
                <a:gdLst/>
                <a:ahLst/>
                <a:rect l="l" t="t" r="r" b="b"/>
                <a:pathLst>
                  <a:path w="715" h="365">
                    <a:moveTo>
                      <a:pt x="0" y="0"/>
                    </a:moveTo>
                    <a:lnTo>
                      <a:pt x="21" y="0"/>
                    </a:lnTo>
                    <a:lnTo>
                      <a:pt x="41" y="0"/>
                    </a:lnTo>
                    <a:lnTo>
                      <a:pt x="62" y="0"/>
                    </a:lnTo>
                    <a:lnTo>
                      <a:pt x="83" y="0"/>
                    </a:lnTo>
                    <a:lnTo>
                      <a:pt x="103" y="0"/>
                    </a:lnTo>
                    <a:lnTo>
                      <a:pt x="124" y="0"/>
                    </a:lnTo>
                    <a:lnTo>
                      <a:pt x="145" y="0"/>
                    </a:lnTo>
                    <a:lnTo>
                      <a:pt x="165" y="0"/>
                    </a:lnTo>
                    <a:lnTo>
                      <a:pt x="186" y="5"/>
                    </a:lnTo>
                    <a:lnTo>
                      <a:pt x="206" y="5"/>
                    </a:lnTo>
                    <a:lnTo>
                      <a:pt x="227" y="5"/>
                    </a:lnTo>
                    <a:lnTo>
                      <a:pt x="248" y="5"/>
                    </a:lnTo>
                    <a:lnTo>
                      <a:pt x="268" y="10"/>
                    </a:lnTo>
                    <a:lnTo>
                      <a:pt x="285" y="10"/>
                    </a:lnTo>
                    <a:lnTo>
                      <a:pt x="306" y="10"/>
                    </a:lnTo>
                    <a:lnTo>
                      <a:pt x="326" y="14"/>
                    </a:lnTo>
                    <a:lnTo>
                      <a:pt x="347" y="14"/>
                    </a:lnTo>
                    <a:lnTo>
                      <a:pt x="368" y="14"/>
                    </a:lnTo>
                    <a:lnTo>
                      <a:pt x="388" y="19"/>
                    </a:lnTo>
                    <a:lnTo>
                      <a:pt x="405" y="19"/>
                    </a:lnTo>
                    <a:lnTo>
                      <a:pt x="425" y="24"/>
                    </a:lnTo>
                    <a:lnTo>
                      <a:pt x="446" y="24"/>
                    </a:lnTo>
                    <a:lnTo>
                      <a:pt x="463" y="29"/>
                    </a:lnTo>
                    <a:lnTo>
                      <a:pt x="483" y="29"/>
                    </a:lnTo>
                    <a:lnTo>
                      <a:pt x="500" y="34"/>
                    </a:lnTo>
                    <a:lnTo>
                      <a:pt x="521" y="34"/>
                    </a:lnTo>
                    <a:lnTo>
                      <a:pt x="541" y="39"/>
                    </a:lnTo>
                    <a:lnTo>
                      <a:pt x="558" y="39"/>
                    </a:lnTo>
                    <a:lnTo>
                      <a:pt x="574" y="44"/>
                    </a:lnTo>
                    <a:lnTo>
                      <a:pt x="595" y="49"/>
                    </a:lnTo>
                    <a:lnTo>
                      <a:pt x="611" y="49"/>
                    </a:lnTo>
                    <a:lnTo>
                      <a:pt x="628" y="54"/>
                    </a:lnTo>
                    <a:lnTo>
                      <a:pt x="649" y="59"/>
                    </a:lnTo>
                    <a:lnTo>
                      <a:pt x="665" y="59"/>
                    </a:lnTo>
                    <a:lnTo>
                      <a:pt x="682" y="64"/>
                    </a:lnTo>
                    <a:lnTo>
                      <a:pt x="698" y="69"/>
                    </a:lnTo>
                    <a:lnTo>
                      <a:pt x="715" y="74"/>
                    </a:lnTo>
                    <a:lnTo>
                      <a:pt x="0" y="3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60"/>
              <p:cNvSpPr/>
              <p:nvPr/>
            </p:nvSpPr>
            <p:spPr>
              <a:xfrm rot="3500400">
                <a:off x="6051600" y="1703880"/>
                <a:ext cx="6840" cy="417960"/>
              </a:xfrm>
              <a:custGeom>
                <a:avLst/>
                <a:gdLst/>
                <a:ahLst/>
                <a:rect l="l" t="t" r="r" b="b"/>
                <a:pathLst>
                  <a:path w="8" h="434">
                    <a:moveTo>
                      <a:pt x="8" y="45"/>
                    </a:moveTo>
                    <a:lnTo>
                      <a:pt x="4" y="40"/>
                    </a:lnTo>
                    <a:lnTo>
                      <a:pt x="4" y="35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390"/>
                    </a:lnTo>
                    <a:lnTo>
                      <a:pt x="0" y="400"/>
                    </a:lnTo>
                    <a:lnTo>
                      <a:pt x="0" y="405"/>
                    </a:lnTo>
                    <a:lnTo>
                      <a:pt x="0" y="410"/>
                    </a:lnTo>
                    <a:lnTo>
                      <a:pt x="0" y="415"/>
                    </a:lnTo>
                    <a:lnTo>
                      <a:pt x="4" y="424"/>
                    </a:lnTo>
                    <a:lnTo>
                      <a:pt x="4" y="429"/>
                    </a:lnTo>
                    <a:lnTo>
                      <a:pt x="8" y="434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804d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61"/>
              <p:cNvSpPr/>
              <p:nvPr/>
            </p:nvSpPr>
            <p:spPr>
              <a:xfrm rot="3500400">
                <a:off x="5772960" y="2215800"/>
                <a:ext cx="1195200" cy="417960"/>
              </a:xfrm>
              <a:custGeom>
                <a:avLst/>
                <a:gdLst/>
                <a:ahLst/>
                <a:rect l="l" t="t" r="r" b="b"/>
                <a:pathLst>
                  <a:path w="1182" h="434">
                    <a:moveTo>
                      <a:pt x="1182" y="0"/>
                    </a:moveTo>
                    <a:lnTo>
                      <a:pt x="0" y="45"/>
                    </a:lnTo>
                    <a:lnTo>
                      <a:pt x="0" y="434"/>
                    </a:lnTo>
                    <a:lnTo>
                      <a:pt x="1182" y="390"/>
                    </a:lnTo>
                    <a:lnTo>
                      <a:pt x="1182" y="0"/>
                    </a:lnTo>
                    <a:close/>
                  </a:path>
                </a:pathLst>
              </a:custGeom>
              <a:solidFill>
                <a:srgbClr val="804d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62"/>
              <p:cNvSpPr/>
              <p:nvPr/>
            </p:nvSpPr>
            <p:spPr>
              <a:xfrm rot="3500400">
                <a:off x="6077160" y="2033280"/>
                <a:ext cx="1202040" cy="394920"/>
              </a:xfrm>
              <a:custGeom>
                <a:avLst/>
                <a:gdLst/>
                <a:ahLst/>
                <a:rect l="l" t="t" r="r" b="b"/>
                <a:pathLst>
                  <a:path w="1190" h="409">
                    <a:moveTo>
                      <a:pt x="8" y="409"/>
                    </a:moveTo>
                    <a:lnTo>
                      <a:pt x="4" y="404"/>
                    </a:lnTo>
                    <a:lnTo>
                      <a:pt x="4" y="399"/>
                    </a:lnTo>
                    <a:lnTo>
                      <a:pt x="0" y="389"/>
                    </a:lnTo>
                    <a:lnTo>
                      <a:pt x="0" y="384"/>
                    </a:lnTo>
                    <a:lnTo>
                      <a:pt x="0" y="379"/>
                    </a:lnTo>
                    <a:lnTo>
                      <a:pt x="0" y="374"/>
                    </a:lnTo>
                    <a:lnTo>
                      <a:pt x="0" y="364"/>
                    </a:lnTo>
                    <a:lnTo>
                      <a:pt x="0" y="360"/>
                    </a:lnTo>
                    <a:lnTo>
                      <a:pt x="0" y="355"/>
                    </a:lnTo>
                    <a:lnTo>
                      <a:pt x="0" y="345"/>
                    </a:lnTo>
                    <a:lnTo>
                      <a:pt x="0" y="340"/>
                    </a:lnTo>
                    <a:lnTo>
                      <a:pt x="4" y="335"/>
                    </a:lnTo>
                    <a:lnTo>
                      <a:pt x="4" y="325"/>
                    </a:lnTo>
                    <a:lnTo>
                      <a:pt x="8" y="320"/>
                    </a:lnTo>
                    <a:lnTo>
                      <a:pt x="12" y="315"/>
                    </a:lnTo>
                    <a:lnTo>
                      <a:pt x="12" y="310"/>
                    </a:lnTo>
                    <a:lnTo>
                      <a:pt x="17" y="300"/>
                    </a:lnTo>
                    <a:lnTo>
                      <a:pt x="21" y="295"/>
                    </a:lnTo>
                    <a:lnTo>
                      <a:pt x="25" y="291"/>
                    </a:lnTo>
                    <a:lnTo>
                      <a:pt x="29" y="281"/>
                    </a:lnTo>
                    <a:lnTo>
                      <a:pt x="33" y="276"/>
                    </a:lnTo>
                    <a:lnTo>
                      <a:pt x="41" y="271"/>
                    </a:lnTo>
                    <a:lnTo>
                      <a:pt x="45" y="266"/>
                    </a:lnTo>
                    <a:lnTo>
                      <a:pt x="50" y="256"/>
                    </a:lnTo>
                    <a:lnTo>
                      <a:pt x="58" y="251"/>
                    </a:lnTo>
                    <a:lnTo>
                      <a:pt x="62" y="246"/>
                    </a:lnTo>
                    <a:lnTo>
                      <a:pt x="70" y="241"/>
                    </a:lnTo>
                    <a:lnTo>
                      <a:pt x="79" y="236"/>
                    </a:lnTo>
                    <a:lnTo>
                      <a:pt x="87" y="226"/>
                    </a:lnTo>
                    <a:lnTo>
                      <a:pt x="95" y="221"/>
                    </a:lnTo>
                    <a:lnTo>
                      <a:pt x="103" y="217"/>
                    </a:lnTo>
                    <a:lnTo>
                      <a:pt x="112" y="212"/>
                    </a:lnTo>
                    <a:lnTo>
                      <a:pt x="120" y="207"/>
                    </a:lnTo>
                    <a:lnTo>
                      <a:pt x="128" y="197"/>
                    </a:lnTo>
                    <a:lnTo>
                      <a:pt x="136" y="192"/>
                    </a:lnTo>
                    <a:lnTo>
                      <a:pt x="149" y="187"/>
                    </a:lnTo>
                    <a:lnTo>
                      <a:pt x="157" y="182"/>
                    </a:lnTo>
                    <a:lnTo>
                      <a:pt x="169" y="177"/>
                    </a:lnTo>
                    <a:lnTo>
                      <a:pt x="182" y="172"/>
                    </a:lnTo>
                    <a:lnTo>
                      <a:pt x="190" y="167"/>
                    </a:lnTo>
                    <a:lnTo>
                      <a:pt x="202" y="162"/>
                    </a:lnTo>
                    <a:lnTo>
                      <a:pt x="215" y="157"/>
                    </a:lnTo>
                    <a:lnTo>
                      <a:pt x="227" y="148"/>
                    </a:lnTo>
                    <a:lnTo>
                      <a:pt x="240" y="143"/>
                    </a:lnTo>
                    <a:lnTo>
                      <a:pt x="252" y="138"/>
                    </a:lnTo>
                    <a:lnTo>
                      <a:pt x="264" y="133"/>
                    </a:lnTo>
                    <a:lnTo>
                      <a:pt x="277" y="128"/>
                    </a:lnTo>
                    <a:lnTo>
                      <a:pt x="289" y="123"/>
                    </a:lnTo>
                    <a:lnTo>
                      <a:pt x="306" y="118"/>
                    </a:lnTo>
                    <a:lnTo>
                      <a:pt x="318" y="113"/>
                    </a:lnTo>
                    <a:lnTo>
                      <a:pt x="335" y="108"/>
                    </a:lnTo>
                    <a:lnTo>
                      <a:pt x="347" y="108"/>
                    </a:lnTo>
                    <a:lnTo>
                      <a:pt x="364" y="103"/>
                    </a:lnTo>
                    <a:lnTo>
                      <a:pt x="376" y="98"/>
                    </a:lnTo>
                    <a:lnTo>
                      <a:pt x="393" y="93"/>
                    </a:lnTo>
                    <a:lnTo>
                      <a:pt x="409" y="88"/>
                    </a:lnTo>
                    <a:lnTo>
                      <a:pt x="426" y="83"/>
                    </a:lnTo>
                    <a:lnTo>
                      <a:pt x="442" y="78"/>
                    </a:lnTo>
                    <a:lnTo>
                      <a:pt x="454" y="78"/>
                    </a:lnTo>
                    <a:lnTo>
                      <a:pt x="471" y="74"/>
                    </a:lnTo>
                    <a:lnTo>
                      <a:pt x="488" y="69"/>
                    </a:lnTo>
                    <a:lnTo>
                      <a:pt x="508" y="64"/>
                    </a:lnTo>
                    <a:lnTo>
                      <a:pt x="525" y="59"/>
                    </a:lnTo>
                    <a:lnTo>
                      <a:pt x="541" y="59"/>
                    </a:lnTo>
                    <a:lnTo>
                      <a:pt x="558" y="54"/>
                    </a:lnTo>
                    <a:lnTo>
                      <a:pt x="574" y="49"/>
                    </a:lnTo>
                    <a:lnTo>
                      <a:pt x="595" y="49"/>
                    </a:lnTo>
                    <a:lnTo>
                      <a:pt x="612" y="44"/>
                    </a:lnTo>
                    <a:lnTo>
                      <a:pt x="632" y="39"/>
                    </a:lnTo>
                    <a:lnTo>
                      <a:pt x="649" y="39"/>
                    </a:lnTo>
                    <a:lnTo>
                      <a:pt x="669" y="34"/>
                    </a:lnTo>
                    <a:lnTo>
                      <a:pt x="686" y="34"/>
                    </a:lnTo>
                    <a:lnTo>
                      <a:pt x="707" y="29"/>
                    </a:lnTo>
                    <a:lnTo>
                      <a:pt x="723" y="29"/>
                    </a:lnTo>
                    <a:lnTo>
                      <a:pt x="744" y="24"/>
                    </a:lnTo>
                    <a:lnTo>
                      <a:pt x="764" y="24"/>
                    </a:lnTo>
                    <a:lnTo>
                      <a:pt x="781" y="19"/>
                    </a:lnTo>
                    <a:lnTo>
                      <a:pt x="802" y="19"/>
                    </a:lnTo>
                    <a:lnTo>
                      <a:pt x="822" y="14"/>
                    </a:lnTo>
                    <a:lnTo>
                      <a:pt x="843" y="14"/>
                    </a:lnTo>
                    <a:lnTo>
                      <a:pt x="859" y="14"/>
                    </a:lnTo>
                    <a:lnTo>
                      <a:pt x="880" y="9"/>
                    </a:lnTo>
                    <a:lnTo>
                      <a:pt x="901" y="9"/>
                    </a:lnTo>
                    <a:lnTo>
                      <a:pt x="921" y="9"/>
                    </a:lnTo>
                    <a:lnTo>
                      <a:pt x="942" y="5"/>
                    </a:lnTo>
                    <a:lnTo>
                      <a:pt x="963" y="5"/>
                    </a:lnTo>
                    <a:lnTo>
                      <a:pt x="983" y="5"/>
                    </a:lnTo>
                    <a:lnTo>
                      <a:pt x="1004" y="5"/>
                    </a:lnTo>
                    <a:lnTo>
                      <a:pt x="1025" y="0"/>
                    </a:lnTo>
                    <a:lnTo>
                      <a:pt x="1045" y="0"/>
                    </a:lnTo>
                    <a:lnTo>
                      <a:pt x="1066" y="0"/>
                    </a:lnTo>
                    <a:lnTo>
                      <a:pt x="1087" y="0"/>
                    </a:lnTo>
                    <a:lnTo>
                      <a:pt x="1107" y="0"/>
                    </a:lnTo>
                    <a:lnTo>
                      <a:pt x="1128" y="0"/>
                    </a:lnTo>
                    <a:lnTo>
                      <a:pt x="1149" y="0"/>
                    </a:lnTo>
                    <a:lnTo>
                      <a:pt x="1169" y="0"/>
                    </a:lnTo>
                    <a:lnTo>
                      <a:pt x="1190" y="0"/>
                    </a:lnTo>
                    <a:lnTo>
                      <a:pt x="1190" y="364"/>
                    </a:lnTo>
                    <a:lnTo>
                      <a:pt x="8" y="409"/>
                    </a:lnTo>
                    <a:close/>
                  </a:path>
                </a:pathLst>
              </a:custGeom>
              <a:solidFill>
                <a:srgbClr val="ff99cc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63"/>
              <p:cNvSpPr/>
              <p:nvPr/>
            </p:nvSpPr>
            <p:spPr>
              <a:xfrm rot="3500400">
                <a:off x="7179840" y="3740040"/>
                <a:ext cx="163440" cy="556560"/>
              </a:xfrm>
              <a:custGeom>
                <a:avLst/>
                <a:gdLst/>
                <a:ahLst/>
                <a:rect l="l" t="t" r="r" b="b"/>
                <a:pathLst>
                  <a:path w="161" h="577">
                    <a:moveTo>
                      <a:pt x="161" y="0"/>
                    </a:moveTo>
                    <a:lnTo>
                      <a:pt x="161" y="10"/>
                    </a:lnTo>
                    <a:lnTo>
                      <a:pt x="161" y="15"/>
                    </a:lnTo>
                    <a:lnTo>
                      <a:pt x="157" y="20"/>
                    </a:lnTo>
                    <a:lnTo>
                      <a:pt x="157" y="25"/>
                    </a:lnTo>
                    <a:lnTo>
                      <a:pt x="157" y="35"/>
                    </a:lnTo>
                    <a:lnTo>
                      <a:pt x="153" y="40"/>
                    </a:lnTo>
                    <a:lnTo>
                      <a:pt x="153" y="45"/>
                    </a:lnTo>
                    <a:lnTo>
                      <a:pt x="149" y="55"/>
                    </a:lnTo>
                    <a:lnTo>
                      <a:pt x="145" y="59"/>
                    </a:lnTo>
                    <a:lnTo>
                      <a:pt x="140" y="64"/>
                    </a:lnTo>
                    <a:lnTo>
                      <a:pt x="136" y="69"/>
                    </a:lnTo>
                    <a:lnTo>
                      <a:pt x="132" y="79"/>
                    </a:lnTo>
                    <a:lnTo>
                      <a:pt x="128" y="84"/>
                    </a:lnTo>
                    <a:lnTo>
                      <a:pt x="124" y="89"/>
                    </a:lnTo>
                    <a:lnTo>
                      <a:pt x="120" y="99"/>
                    </a:lnTo>
                    <a:lnTo>
                      <a:pt x="116" y="104"/>
                    </a:lnTo>
                    <a:lnTo>
                      <a:pt x="107" y="109"/>
                    </a:lnTo>
                    <a:lnTo>
                      <a:pt x="103" y="114"/>
                    </a:lnTo>
                    <a:lnTo>
                      <a:pt x="95" y="124"/>
                    </a:lnTo>
                    <a:lnTo>
                      <a:pt x="87" y="129"/>
                    </a:lnTo>
                    <a:lnTo>
                      <a:pt x="83" y="133"/>
                    </a:lnTo>
                    <a:lnTo>
                      <a:pt x="74" y="138"/>
                    </a:lnTo>
                    <a:lnTo>
                      <a:pt x="66" y="143"/>
                    </a:lnTo>
                    <a:lnTo>
                      <a:pt x="58" y="153"/>
                    </a:lnTo>
                    <a:lnTo>
                      <a:pt x="50" y="158"/>
                    </a:lnTo>
                    <a:lnTo>
                      <a:pt x="41" y="163"/>
                    </a:lnTo>
                    <a:lnTo>
                      <a:pt x="29" y="168"/>
                    </a:lnTo>
                    <a:lnTo>
                      <a:pt x="21" y="173"/>
                    </a:lnTo>
                    <a:lnTo>
                      <a:pt x="12" y="178"/>
                    </a:lnTo>
                    <a:lnTo>
                      <a:pt x="0" y="188"/>
                    </a:lnTo>
                    <a:lnTo>
                      <a:pt x="0" y="577"/>
                    </a:lnTo>
                    <a:lnTo>
                      <a:pt x="12" y="567"/>
                    </a:lnTo>
                    <a:lnTo>
                      <a:pt x="21" y="562"/>
                    </a:lnTo>
                    <a:lnTo>
                      <a:pt x="29" y="557"/>
                    </a:lnTo>
                    <a:lnTo>
                      <a:pt x="41" y="553"/>
                    </a:lnTo>
                    <a:lnTo>
                      <a:pt x="50" y="548"/>
                    </a:lnTo>
                    <a:lnTo>
                      <a:pt x="58" y="543"/>
                    </a:lnTo>
                    <a:lnTo>
                      <a:pt x="66" y="533"/>
                    </a:lnTo>
                    <a:lnTo>
                      <a:pt x="74" y="528"/>
                    </a:lnTo>
                    <a:lnTo>
                      <a:pt x="83" y="523"/>
                    </a:lnTo>
                    <a:lnTo>
                      <a:pt x="87" y="518"/>
                    </a:lnTo>
                    <a:lnTo>
                      <a:pt x="95" y="513"/>
                    </a:lnTo>
                    <a:lnTo>
                      <a:pt x="103" y="503"/>
                    </a:lnTo>
                    <a:lnTo>
                      <a:pt x="107" y="498"/>
                    </a:lnTo>
                    <a:lnTo>
                      <a:pt x="116" y="493"/>
                    </a:lnTo>
                    <a:lnTo>
                      <a:pt x="120" y="488"/>
                    </a:lnTo>
                    <a:lnTo>
                      <a:pt x="124" y="479"/>
                    </a:lnTo>
                    <a:lnTo>
                      <a:pt x="128" y="474"/>
                    </a:lnTo>
                    <a:lnTo>
                      <a:pt x="132" y="469"/>
                    </a:lnTo>
                    <a:lnTo>
                      <a:pt x="136" y="459"/>
                    </a:lnTo>
                    <a:lnTo>
                      <a:pt x="140" y="454"/>
                    </a:lnTo>
                    <a:lnTo>
                      <a:pt x="145" y="449"/>
                    </a:lnTo>
                    <a:lnTo>
                      <a:pt x="149" y="444"/>
                    </a:lnTo>
                    <a:lnTo>
                      <a:pt x="153" y="434"/>
                    </a:lnTo>
                    <a:lnTo>
                      <a:pt x="153" y="429"/>
                    </a:lnTo>
                    <a:lnTo>
                      <a:pt x="157" y="424"/>
                    </a:lnTo>
                    <a:lnTo>
                      <a:pt x="157" y="414"/>
                    </a:lnTo>
                    <a:lnTo>
                      <a:pt x="157" y="410"/>
                    </a:lnTo>
                    <a:lnTo>
                      <a:pt x="161" y="405"/>
                    </a:lnTo>
                    <a:lnTo>
                      <a:pt x="161" y="400"/>
                    </a:lnTo>
                    <a:lnTo>
                      <a:pt x="161" y="39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64"/>
              <p:cNvSpPr/>
              <p:nvPr/>
            </p:nvSpPr>
            <p:spPr>
              <a:xfrm rot="3500400">
                <a:off x="6427440" y="3228840"/>
                <a:ext cx="1040040" cy="551880"/>
              </a:xfrm>
              <a:custGeom>
                <a:avLst/>
                <a:gdLst/>
                <a:ahLst/>
                <a:rect l="l" t="t" r="r" b="b"/>
                <a:pathLst>
                  <a:path w="1029" h="572">
                    <a:moveTo>
                      <a:pt x="0" y="0"/>
                    </a:moveTo>
                    <a:lnTo>
                      <a:pt x="1029" y="183"/>
                    </a:lnTo>
                    <a:lnTo>
                      <a:pt x="1029" y="572"/>
                    </a:lnTo>
                    <a:lnTo>
                      <a:pt x="0" y="3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65"/>
              <p:cNvSpPr/>
              <p:nvPr/>
            </p:nvSpPr>
            <p:spPr>
              <a:xfrm rot="3500400">
                <a:off x="6666120" y="3172320"/>
                <a:ext cx="1203840" cy="462240"/>
              </a:xfrm>
              <a:custGeom>
                <a:avLst/>
                <a:gdLst/>
                <a:ahLst/>
                <a:rect l="l" t="t" r="r" b="b"/>
                <a:pathLst>
                  <a:path w="1190" h="479">
                    <a:moveTo>
                      <a:pt x="715" y="0"/>
                    </a:moveTo>
                    <a:lnTo>
                      <a:pt x="732" y="5"/>
                    </a:lnTo>
                    <a:lnTo>
                      <a:pt x="748" y="5"/>
                    </a:lnTo>
                    <a:lnTo>
                      <a:pt x="765" y="10"/>
                    </a:lnTo>
                    <a:lnTo>
                      <a:pt x="781" y="15"/>
                    </a:lnTo>
                    <a:lnTo>
                      <a:pt x="794" y="20"/>
                    </a:lnTo>
                    <a:lnTo>
                      <a:pt x="810" y="25"/>
                    </a:lnTo>
                    <a:lnTo>
                      <a:pt x="827" y="30"/>
                    </a:lnTo>
                    <a:lnTo>
                      <a:pt x="839" y="35"/>
                    </a:lnTo>
                    <a:lnTo>
                      <a:pt x="855" y="35"/>
                    </a:lnTo>
                    <a:lnTo>
                      <a:pt x="868" y="40"/>
                    </a:lnTo>
                    <a:lnTo>
                      <a:pt x="884" y="45"/>
                    </a:lnTo>
                    <a:lnTo>
                      <a:pt x="897" y="50"/>
                    </a:lnTo>
                    <a:lnTo>
                      <a:pt x="909" y="55"/>
                    </a:lnTo>
                    <a:lnTo>
                      <a:pt x="926" y="60"/>
                    </a:lnTo>
                    <a:lnTo>
                      <a:pt x="938" y="65"/>
                    </a:lnTo>
                    <a:lnTo>
                      <a:pt x="951" y="69"/>
                    </a:lnTo>
                    <a:lnTo>
                      <a:pt x="963" y="74"/>
                    </a:lnTo>
                    <a:lnTo>
                      <a:pt x="975" y="84"/>
                    </a:lnTo>
                    <a:lnTo>
                      <a:pt x="988" y="89"/>
                    </a:lnTo>
                    <a:lnTo>
                      <a:pt x="996" y="94"/>
                    </a:lnTo>
                    <a:lnTo>
                      <a:pt x="1008" y="99"/>
                    </a:lnTo>
                    <a:lnTo>
                      <a:pt x="1021" y="104"/>
                    </a:lnTo>
                    <a:lnTo>
                      <a:pt x="1029" y="109"/>
                    </a:lnTo>
                    <a:lnTo>
                      <a:pt x="1041" y="114"/>
                    </a:lnTo>
                    <a:lnTo>
                      <a:pt x="1050" y="119"/>
                    </a:lnTo>
                    <a:lnTo>
                      <a:pt x="1058" y="124"/>
                    </a:lnTo>
                    <a:lnTo>
                      <a:pt x="1070" y="134"/>
                    </a:lnTo>
                    <a:lnTo>
                      <a:pt x="1079" y="138"/>
                    </a:lnTo>
                    <a:lnTo>
                      <a:pt x="1087" y="143"/>
                    </a:lnTo>
                    <a:lnTo>
                      <a:pt x="1095" y="148"/>
                    </a:lnTo>
                    <a:lnTo>
                      <a:pt x="1103" y="153"/>
                    </a:lnTo>
                    <a:lnTo>
                      <a:pt x="1112" y="163"/>
                    </a:lnTo>
                    <a:lnTo>
                      <a:pt x="1116" y="168"/>
                    </a:lnTo>
                    <a:lnTo>
                      <a:pt x="1124" y="173"/>
                    </a:lnTo>
                    <a:lnTo>
                      <a:pt x="1132" y="178"/>
                    </a:lnTo>
                    <a:lnTo>
                      <a:pt x="1136" y="183"/>
                    </a:lnTo>
                    <a:lnTo>
                      <a:pt x="1145" y="193"/>
                    </a:lnTo>
                    <a:lnTo>
                      <a:pt x="1149" y="198"/>
                    </a:lnTo>
                    <a:lnTo>
                      <a:pt x="1153" y="203"/>
                    </a:lnTo>
                    <a:lnTo>
                      <a:pt x="1157" y="208"/>
                    </a:lnTo>
                    <a:lnTo>
                      <a:pt x="1161" y="217"/>
                    </a:lnTo>
                    <a:lnTo>
                      <a:pt x="1165" y="222"/>
                    </a:lnTo>
                    <a:lnTo>
                      <a:pt x="1169" y="227"/>
                    </a:lnTo>
                    <a:lnTo>
                      <a:pt x="1174" y="237"/>
                    </a:lnTo>
                    <a:lnTo>
                      <a:pt x="1178" y="242"/>
                    </a:lnTo>
                    <a:lnTo>
                      <a:pt x="1182" y="247"/>
                    </a:lnTo>
                    <a:lnTo>
                      <a:pt x="1182" y="252"/>
                    </a:lnTo>
                    <a:lnTo>
                      <a:pt x="1186" y="262"/>
                    </a:lnTo>
                    <a:lnTo>
                      <a:pt x="1186" y="267"/>
                    </a:lnTo>
                    <a:lnTo>
                      <a:pt x="1186" y="272"/>
                    </a:lnTo>
                    <a:lnTo>
                      <a:pt x="1190" y="281"/>
                    </a:lnTo>
                    <a:lnTo>
                      <a:pt x="1190" y="286"/>
                    </a:lnTo>
                    <a:lnTo>
                      <a:pt x="1190" y="291"/>
                    </a:lnTo>
                    <a:lnTo>
                      <a:pt x="1190" y="301"/>
                    </a:lnTo>
                    <a:lnTo>
                      <a:pt x="1190" y="306"/>
                    </a:lnTo>
                    <a:lnTo>
                      <a:pt x="1186" y="311"/>
                    </a:lnTo>
                    <a:lnTo>
                      <a:pt x="1186" y="316"/>
                    </a:lnTo>
                    <a:lnTo>
                      <a:pt x="1186" y="326"/>
                    </a:lnTo>
                    <a:lnTo>
                      <a:pt x="1182" y="331"/>
                    </a:lnTo>
                    <a:lnTo>
                      <a:pt x="1182" y="336"/>
                    </a:lnTo>
                    <a:lnTo>
                      <a:pt x="1178" y="346"/>
                    </a:lnTo>
                    <a:lnTo>
                      <a:pt x="1174" y="350"/>
                    </a:lnTo>
                    <a:lnTo>
                      <a:pt x="1169" y="355"/>
                    </a:lnTo>
                    <a:lnTo>
                      <a:pt x="1165" y="360"/>
                    </a:lnTo>
                    <a:lnTo>
                      <a:pt x="1161" y="370"/>
                    </a:lnTo>
                    <a:lnTo>
                      <a:pt x="1157" y="375"/>
                    </a:lnTo>
                    <a:lnTo>
                      <a:pt x="1153" y="380"/>
                    </a:lnTo>
                    <a:lnTo>
                      <a:pt x="1149" y="390"/>
                    </a:lnTo>
                    <a:lnTo>
                      <a:pt x="1145" y="395"/>
                    </a:lnTo>
                    <a:lnTo>
                      <a:pt x="1136" y="400"/>
                    </a:lnTo>
                    <a:lnTo>
                      <a:pt x="1132" y="405"/>
                    </a:lnTo>
                    <a:lnTo>
                      <a:pt x="1124" y="415"/>
                    </a:lnTo>
                    <a:lnTo>
                      <a:pt x="1116" y="420"/>
                    </a:lnTo>
                    <a:lnTo>
                      <a:pt x="1112" y="424"/>
                    </a:lnTo>
                    <a:lnTo>
                      <a:pt x="1103" y="429"/>
                    </a:lnTo>
                    <a:lnTo>
                      <a:pt x="1095" y="434"/>
                    </a:lnTo>
                    <a:lnTo>
                      <a:pt x="1087" y="444"/>
                    </a:lnTo>
                    <a:lnTo>
                      <a:pt x="1079" y="449"/>
                    </a:lnTo>
                    <a:lnTo>
                      <a:pt x="1070" y="454"/>
                    </a:lnTo>
                    <a:lnTo>
                      <a:pt x="1058" y="459"/>
                    </a:lnTo>
                    <a:lnTo>
                      <a:pt x="1050" y="464"/>
                    </a:lnTo>
                    <a:lnTo>
                      <a:pt x="1041" y="469"/>
                    </a:lnTo>
                    <a:lnTo>
                      <a:pt x="1029" y="479"/>
                    </a:lnTo>
                    <a:lnTo>
                      <a:pt x="0" y="291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66"/>
              <p:cNvSpPr/>
              <p:nvPr/>
            </p:nvSpPr>
            <p:spPr>
              <a:xfrm rot="3500400">
                <a:off x="6306120" y="3345480"/>
                <a:ext cx="956880" cy="551880"/>
              </a:xfrm>
              <a:custGeom>
                <a:avLst/>
                <a:gdLst/>
                <a:ahLst/>
                <a:rect l="l" t="t" r="r" b="b"/>
                <a:pathLst>
                  <a:path w="946" h="572">
                    <a:moveTo>
                      <a:pt x="946" y="0"/>
                    </a:moveTo>
                    <a:lnTo>
                      <a:pt x="938" y="5"/>
                    </a:lnTo>
                    <a:lnTo>
                      <a:pt x="925" y="10"/>
                    </a:lnTo>
                    <a:lnTo>
                      <a:pt x="913" y="15"/>
                    </a:lnTo>
                    <a:lnTo>
                      <a:pt x="905" y="20"/>
                    </a:lnTo>
                    <a:lnTo>
                      <a:pt x="892" y="25"/>
                    </a:lnTo>
                    <a:lnTo>
                      <a:pt x="880" y="30"/>
                    </a:lnTo>
                    <a:lnTo>
                      <a:pt x="868" y="35"/>
                    </a:lnTo>
                    <a:lnTo>
                      <a:pt x="855" y="40"/>
                    </a:lnTo>
                    <a:lnTo>
                      <a:pt x="843" y="45"/>
                    </a:lnTo>
                    <a:lnTo>
                      <a:pt x="826" y="50"/>
                    </a:lnTo>
                    <a:lnTo>
                      <a:pt x="814" y="55"/>
                    </a:lnTo>
                    <a:lnTo>
                      <a:pt x="801" y="60"/>
                    </a:lnTo>
                    <a:lnTo>
                      <a:pt x="785" y="65"/>
                    </a:lnTo>
                    <a:lnTo>
                      <a:pt x="773" y="69"/>
                    </a:lnTo>
                    <a:lnTo>
                      <a:pt x="756" y="74"/>
                    </a:lnTo>
                    <a:lnTo>
                      <a:pt x="744" y="79"/>
                    </a:lnTo>
                    <a:lnTo>
                      <a:pt x="727" y="84"/>
                    </a:lnTo>
                    <a:lnTo>
                      <a:pt x="711" y="89"/>
                    </a:lnTo>
                    <a:lnTo>
                      <a:pt x="698" y="89"/>
                    </a:lnTo>
                    <a:lnTo>
                      <a:pt x="682" y="94"/>
                    </a:lnTo>
                    <a:lnTo>
                      <a:pt x="665" y="99"/>
                    </a:lnTo>
                    <a:lnTo>
                      <a:pt x="649" y="104"/>
                    </a:lnTo>
                    <a:lnTo>
                      <a:pt x="632" y="109"/>
                    </a:lnTo>
                    <a:lnTo>
                      <a:pt x="616" y="114"/>
                    </a:lnTo>
                    <a:lnTo>
                      <a:pt x="599" y="114"/>
                    </a:lnTo>
                    <a:lnTo>
                      <a:pt x="583" y="119"/>
                    </a:lnTo>
                    <a:lnTo>
                      <a:pt x="566" y="124"/>
                    </a:lnTo>
                    <a:lnTo>
                      <a:pt x="545" y="124"/>
                    </a:lnTo>
                    <a:lnTo>
                      <a:pt x="529" y="129"/>
                    </a:lnTo>
                    <a:lnTo>
                      <a:pt x="512" y="134"/>
                    </a:lnTo>
                    <a:lnTo>
                      <a:pt x="492" y="134"/>
                    </a:lnTo>
                    <a:lnTo>
                      <a:pt x="475" y="138"/>
                    </a:lnTo>
                    <a:lnTo>
                      <a:pt x="459" y="143"/>
                    </a:lnTo>
                    <a:lnTo>
                      <a:pt x="438" y="143"/>
                    </a:lnTo>
                    <a:lnTo>
                      <a:pt x="417" y="148"/>
                    </a:lnTo>
                    <a:lnTo>
                      <a:pt x="401" y="148"/>
                    </a:lnTo>
                    <a:lnTo>
                      <a:pt x="380" y="153"/>
                    </a:lnTo>
                    <a:lnTo>
                      <a:pt x="364" y="153"/>
                    </a:lnTo>
                    <a:lnTo>
                      <a:pt x="343" y="158"/>
                    </a:lnTo>
                    <a:lnTo>
                      <a:pt x="322" y="158"/>
                    </a:lnTo>
                    <a:lnTo>
                      <a:pt x="306" y="163"/>
                    </a:lnTo>
                    <a:lnTo>
                      <a:pt x="285" y="163"/>
                    </a:lnTo>
                    <a:lnTo>
                      <a:pt x="264" y="163"/>
                    </a:lnTo>
                    <a:lnTo>
                      <a:pt x="244" y="168"/>
                    </a:lnTo>
                    <a:lnTo>
                      <a:pt x="223" y="168"/>
                    </a:lnTo>
                    <a:lnTo>
                      <a:pt x="202" y="173"/>
                    </a:lnTo>
                    <a:lnTo>
                      <a:pt x="186" y="173"/>
                    </a:lnTo>
                    <a:lnTo>
                      <a:pt x="165" y="173"/>
                    </a:lnTo>
                    <a:lnTo>
                      <a:pt x="145" y="173"/>
                    </a:lnTo>
                    <a:lnTo>
                      <a:pt x="124" y="178"/>
                    </a:lnTo>
                    <a:lnTo>
                      <a:pt x="103" y="178"/>
                    </a:lnTo>
                    <a:lnTo>
                      <a:pt x="83" y="178"/>
                    </a:lnTo>
                    <a:lnTo>
                      <a:pt x="62" y="178"/>
                    </a:lnTo>
                    <a:lnTo>
                      <a:pt x="41" y="178"/>
                    </a:lnTo>
                    <a:lnTo>
                      <a:pt x="21" y="178"/>
                    </a:lnTo>
                    <a:lnTo>
                      <a:pt x="0" y="183"/>
                    </a:lnTo>
                    <a:lnTo>
                      <a:pt x="0" y="572"/>
                    </a:lnTo>
                    <a:lnTo>
                      <a:pt x="21" y="567"/>
                    </a:lnTo>
                    <a:lnTo>
                      <a:pt x="41" y="567"/>
                    </a:lnTo>
                    <a:lnTo>
                      <a:pt x="62" y="567"/>
                    </a:lnTo>
                    <a:lnTo>
                      <a:pt x="83" y="567"/>
                    </a:lnTo>
                    <a:lnTo>
                      <a:pt x="103" y="567"/>
                    </a:lnTo>
                    <a:lnTo>
                      <a:pt x="124" y="567"/>
                    </a:lnTo>
                    <a:lnTo>
                      <a:pt x="145" y="562"/>
                    </a:lnTo>
                    <a:lnTo>
                      <a:pt x="165" y="562"/>
                    </a:lnTo>
                    <a:lnTo>
                      <a:pt x="186" y="562"/>
                    </a:lnTo>
                    <a:lnTo>
                      <a:pt x="202" y="562"/>
                    </a:lnTo>
                    <a:lnTo>
                      <a:pt x="223" y="558"/>
                    </a:lnTo>
                    <a:lnTo>
                      <a:pt x="244" y="558"/>
                    </a:lnTo>
                    <a:lnTo>
                      <a:pt x="264" y="553"/>
                    </a:lnTo>
                    <a:lnTo>
                      <a:pt x="285" y="553"/>
                    </a:lnTo>
                    <a:lnTo>
                      <a:pt x="306" y="553"/>
                    </a:lnTo>
                    <a:lnTo>
                      <a:pt x="322" y="548"/>
                    </a:lnTo>
                    <a:lnTo>
                      <a:pt x="343" y="548"/>
                    </a:lnTo>
                    <a:lnTo>
                      <a:pt x="364" y="543"/>
                    </a:lnTo>
                    <a:lnTo>
                      <a:pt x="380" y="543"/>
                    </a:lnTo>
                    <a:lnTo>
                      <a:pt x="401" y="538"/>
                    </a:lnTo>
                    <a:lnTo>
                      <a:pt x="417" y="538"/>
                    </a:lnTo>
                    <a:lnTo>
                      <a:pt x="438" y="533"/>
                    </a:lnTo>
                    <a:lnTo>
                      <a:pt x="459" y="533"/>
                    </a:lnTo>
                    <a:lnTo>
                      <a:pt x="475" y="528"/>
                    </a:lnTo>
                    <a:lnTo>
                      <a:pt x="492" y="523"/>
                    </a:lnTo>
                    <a:lnTo>
                      <a:pt x="512" y="523"/>
                    </a:lnTo>
                    <a:lnTo>
                      <a:pt x="529" y="518"/>
                    </a:lnTo>
                    <a:lnTo>
                      <a:pt x="545" y="513"/>
                    </a:lnTo>
                    <a:lnTo>
                      <a:pt x="566" y="513"/>
                    </a:lnTo>
                    <a:lnTo>
                      <a:pt x="583" y="508"/>
                    </a:lnTo>
                    <a:lnTo>
                      <a:pt x="599" y="503"/>
                    </a:lnTo>
                    <a:lnTo>
                      <a:pt x="616" y="503"/>
                    </a:lnTo>
                    <a:lnTo>
                      <a:pt x="632" y="498"/>
                    </a:lnTo>
                    <a:lnTo>
                      <a:pt x="649" y="493"/>
                    </a:lnTo>
                    <a:lnTo>
                      <a:pt x="665" y="489"/>
                    </a:lnTo>
                    <a:lnTo>
                      <a:pt x="682" y="484"/>
                    </a:lnTo>
                    <a:lnTo>
                      <a:pt x="698" y="479"/>
                    </a:lnTo>
                    <a:lnTo>
                      <a:pt x="711" y="479"/>
                    </a:lnTo>
                    <a:lnTo>
                      <a:pt x="727" y="474"/>
                    </a:lnTo>
                    <a:lnTo>
                      <a:pt x="744" y="469"/>
                    </a:lnTo>
                    <a:lnTo>
                      <a:pt x="756" y="464"/>
                    </a:lnTo>
                    <a:lnTo>
                      <a:pt x="773" y="459"/>
                    </a:lnTo>
                    <a:lnTo>
                      <a:pt x="785" y="454"/>
                    </a:lnTo>
                    <a:lnTo>
                      <a:pt x="801" y="449"/>
                    </a:lnTo>
                    <a:lnTo>
                      <a:pt x="814" y="444"/>
                    </a:lnTo>
                    <a:lnTo>
                      <a:pt x="826" y="439"/>
                    </a:lnTo>
                    <a:lnTo>
                      <a:pt x="843" y="434"/>
                    </a:lnTo>
                    <a:lnTo>
                      <a:pt x="855" y="429"/>
                    </a:lnTo>
                    <a:lnTo>
                      <a:pt x="868" y="424"/>
                    </a:lnTo>
                    <a:lnTo>
                      <a:pt x="880" y="420"/>
                    </a:lnTo>
                    <a:lnTo>
                      <a:pt x="892" y="415"/>
                    </a:lnTo>
                    <a:lnTo>
                      <a:pt x="905" y="410"/>
                    </a:lnTo>
                    <a:lnTo>
                      <a:pt x="913" y="405"/>
                    </a:lnTo>
                    <a:lnTo>
                      <a:pt x="925" y="400"/>
                    </a:lnTo>
                    <a:lnTo>
                      <a:pt x="938" y="395"/>
                    </a:lnTo>
                    <a:lnTo>
                      <a:pt x="946" y="390"/>
                    </a:lnTo>
                    <a:lnTo>
                      <a:pt x="946" y="0"/>
                    </a:lnTo>
                    <a:close/>
                  </a:path>
                </a:pathLst>
              </a:custGeom>
              <a:solidFill>
                <a:srgbClr val="80804d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67"/>
              <p:cNvSpPr/>
              <p:nvPr/>
            </p:nvSpPr>
            <p:spPr>
              <a:xfrm rot="3500400">
                <a:off x="6477120" y="3260880"/>
                <a:ext cx="1041840" cy="356760"/>
              </a:xfrm>
              <a:custGeom>
                <a:avLst/>
                <a:gdLst/>
                <a:ahLst/>
                <a:rect l="l" t="t" r="r" b="b"/>
                <a:pathLst>
                  <a:path w="1029" h="370">
                    <a:moveTo>
                      <a:pt x="1029" y="187"/>
                    </a:moveTo>
                    <a:lnTo>
                      <a:pt x="1021" y="192"/>
                    </a:lnTo>
                    <a:lnTo>
                      <a:pt x="1008" y="197"/>
                    </a:lnTo>
                    <a:lnTo>
                      <a:pt x="996" y="202"/>
                    </a:lnTo>
                    <a:lnTo>
                      <a:pt x="988" y="207"/>
                    </a:lnTo>
                    <a:lnTo>
                      <a:pt x="975" y="212"/>
                    </a:lnTo>
                    <a:lnTo>
                      <a:pt x="963" y="217"/>
                    </a:lnTo>
                    <a:lnTo>
                      <a:pt x="951" y="222"/>
                    </a:lnTo>
                    <a:lnTo>
                      <a:pt x="938" y="227"/>
                    </a:lnTo>
                    <a:lnTo>
                      <a:pt x="926" y="232"/>
                    </a:lnTo>
                    <a:lnTo>
                      <a:pt x="909" y="237"/>
                    </a:lnTo>
                    <a:lnTo>
                      <a:pt x="897" y="242"/>
                    </a:lnTo>
                    <a:lnTo>
                      <a:pt x="884" y="247"/>
                    </a:lnTo>
                    <a:lnTo>
                      <a:pt x="868" y="252"/>
                    </a:lnTo>
                    <a:lnTo>
                      <a:pt x="856" y="256"/>
                    </a:lnTo>
                    <a:lnTo>
                      <a:pt x="839" y="261"/>
                    </a:lnTo>
                    <a:lnTo>
                      <a:pt x="827" y="266"/>
                    </a:lnTo>
                    <a:lnTo>
                      <a:pt x="810" y="271"/>
                    </a:lnTo>
                    <a:lnTo>
                      <a:pt x="794" y="276"/>
                    </a:lnTo>
                    <a:lnTo>
                      <a:pt x="781" y="276"/>
                    </a:lnTo>
                    <a:lnTo>
                      <a:pt x="765" y="281"/>
                    </a:lnTo>
                    <a:lnTo>
                      <a:pt x="748" y="286"/>
                    </a:lnTo>
                    <a:lnTo>
                      <a:pt x="732" y="291"/>
                    </a:lnTo>
                    <a:lnTo>
                      <a:pt x="715" y="296"/>
                    </a:lnTo>
                    <a:lnTo>
                      <a:pt x="699" y="301"/>
                    </a:lnTo>
                    <a:lnTo>
                      <a:pt x="682" y="301"/>
                    </a:lnTo>
                    <a:lnTo>
                      <a:pt x="666" y="306"/>
                    </a:lnTo>
                    <a:lnTo>
                      <a:pt x="649" y="311"/>
                    </a:lnTo>
                    <a:lnTo>
                      <a:pt x="628" y="311"/>
                    </a:lnTo>
                    <a:lnTo>
                      <a:pt x="612" y="316"/>
                    </a:lnTo>
                    <a:lnTo>
                      <a:pt x="595" y="321"/>
                    </a:lnTo>
                    <a:lnTo>
                      <a:pt x="575" y="321"/>
                    </a:lnTo>
                    <a:lnTo>
                      <a:pt x="558" y="325"/>
                    </a:lnTo>
                    <a:lnTo>
                      <a:pt x="542" y="330"/>
                    </a:lnTo>
                    <a:lnTo>
                      <a:pt x="521" y="330"/>
                    </a:lnTo>
                    <a:lnTo>
                      <a:pt x="500" y="335"/>
                    </a:lnTo>
                    <a:lnTo>
                      <a:pt x="484" y="335"/>
                    </a:lnTo>
                    <a:lnTo>
                      <a:pt x="463" y="340"/>
                    </a:lnTo>
                    <a:lnTo>
                      <a:pt x="447" y="340"/>
                    </a:lnTo>
                    <a:lnTo>
                      <a:pt x="426" y="345"/>
                    </a:lnTo>
                    <a:lnTo>
                      <a:pt x="405" y="345"/>
                    </a:lnTo>
                    <a:lnTo>
                      <a:pt x="389" y="350"/>
                    </a:lnTo>
                    <a:lnTo>
                      <a:pt x="368" y="350"/>
                    </a:lnTo>
                    <a:lnTo>
                      <a:pt x="347" y="350"/>
                    </a:lnTo>
                    <a:lnTo>
                      <a:pt x="327" y="355"/>
                    </a:lnTo>
                    <a:lnTo>
                      <a:pt x="306" y="355"/>
                    </a:lnTo>
                    <a:lnTo>
                      <a:pt x="285" y="360"/>
                    </a:lnTo>
                    <a:lnTo>
                      <a:pt x="269" y="360"/>
                    </a:lnTo>
                    <a:lnTo>
                      <a:pt x="248" y="360"/>
                    </a:lnTo>
                    <a:lnTo>
                      <a:pt x="228" y="360"/>
                    </a:lnTo>
                    <a:lnTo>
                      <a:pt x="207" y="365"/>
                    </a:lnTo>
                    <a:lnTo>
                      <a:pt x="186" y="365"/>
                    </a:lnTo>
                    <a:lnTo>
                      <a:pt x="166" y="365"/>
                    </a:lnTo>
                    <a:lnTo>
                      <a:pt x="145" y="365"/>
                    </a:lnTo>
                    <a:lnTo>
                      <a:pt x="124" y="365"/>
                    </a:lnTo>
                    <a:lnTo>
                      <a:pt x="104" y="365"/>
                    </a:lnTo>
                    <a:lnTo>
                      <a:pt x="83" y="370"/>
                    </a:lnTo>
                    <a:lnTo>
                      <a:pt x="0" y="0"/>
                    </a:lnTo>
                    <a:lnTo>
                      <a:pt x="1029" y="187"/>
                    </a:lnTo>
                    <a:close/>
                  </a:path>
                </a:pathLst>
              </a:custGeom>
              <a:solidFill>
                <a:srgbClr val="ffff99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68"/>
              <p:cNvSpPr/>
              <p:nvPr/>
            </p:nvSpPr>
            <p:spPr>
              <a:xfrm rot="3500400">
                <a:off x="5581440" y="2230920"/>
                <a:ext cx="1278720" cy="690120"/>
              </a:xfrm>
              <a:custGeom>
                <a:avLst/>
                <a:gdLst/>
                <a:ahLst/>
                <a:rect l="l" t="t" r="r" b="b"/>
                <a:pathLst>
                  <a:path w="1264" h="715">
                    <a:moveTo>
                      <a:pt x="1264" y="326"/>
                    </a:moveTo>
                    <a:lnTo>
                      <a:pt x="1243" y="326"/>
                    </a:lnTo>
                    <a:lnTo>
                      <a:pt x="1223" y="326"/>
                    </a:lnTo>
                    <a:lnTo>
                      <a:pt x="1202" y="326"/>
                    </a:lnTo>
                    <a:lnTo>
                      <a:pt x="1181" y="326"/>
                    </a:lnTo>
                    <a:lnTo>
                      <a:pt x="1161" y="326"/>
                    </a:lnTo>
                    <a:lnTo>
                      <a:pt x="1140" y="326"/>
                    </a:lnTo>
                    <a:lnTo>
                      <a:pt x="1119" y="326"/>
                    </a:lnTo>
                    <a:lnTo>
                      <a:pt x="1099" y="326"/>
                    </a:lnTo>
                    <a:lnTo>
                      <a:pt x="1078" y="321"/>
                    </a:lnTo>
                    <a:lnTo>
                      <a:pt x="1057" y="321"/>
                    </a:lnTo>
                    <a:lnTo>
                      <a:pt x="1037" y="321"/>
                    </a:lnTo>
                    <a:lnTo>
                      <a:pt x="1016" y="321"/>
                    </a:lnTo>
                    <a:lnTo>
                      <a:pt x="995" y="321"/>
                    </a:lnTo>
                    <a:lnTo>
                      <a:pt x="975" y="321"/>
                    </a:lnTo>
                    <a:lnTo>
                      <a:pt x="954" y="316"/>
                    </a:lnTo>
                    <a:lnTo>
                      <a:pt x="933" y="316"/>
                    </a:lnTo>
                    <a:lnTo>
                      <a:pt x="913" y="316"/>
                    </a:lnTo>
                    <a:lnTo>
                      <a:pt x="892" y="316"/>
                    </a:lnTo>
                    <a:lnTo>
                      <a:pt x="871" y="311"/>
                    </a:lnTo>
                    <a:lnTo>
                      <a:pt x="851" y="311"/>
                    </a:lnTo>
                    <a:lnTo>
                      <a:pt x="834" y="306"/>
                    </a:lnTo>
                    <a:lnTo>
                      <a:pt x="813" y="306"/>
                    </a:lnTo>
                    <a:lnTo>
                      <a:pt x="793" y="306"/>
                    </a:lnTo>
                    <a:lnTo>
                      <a:pt x="772" y="301"/>
                    </a:lnTo>
                    <a:lnTo>
                      <a:pt x="756" y="301"/>
                    </a:lnTo>
                    <a:lnTo>
                      <a:pt x="735" y="296"/>
                    </a:lnTo>
                    <a:lnTo>
                      <a:pt x="714" y="296"/>
                    </a:lnTo>
                    <a:lnTo>
                      <a:pt x="698" y="291"/>
                    </a:lnTo>
                    <a:lnTo>
                      <a:pt x="677" y="291"/>
                    </a:lnTo>
                    <a:lnTo>
                      <a:pt x="661" y="286"/>
                    </a:lnTo>
                    <a:lnTo>
                      <a:pt x="640" y="286"/>
                    </a:lnTo>
                    <a:lnTo>
                      <a:pt x="623" y="281"/>
                    </a:lnTo>
                    <a:lnTo>
                      <a:pt x="603" y="277"/>
                    </a:lnTo>
                    <a:lnTo>
                      <a:pt x="586" y="277"/>
                    </a:lnTo>
                    <a:lnTo>
                      <a:pt x="566" y="272"/>
                    </a:lnTo>
                    <a:lnTo>
                      <a:pt x="549" y="267"/>
                    </a:lnTo>
                    <a:lnTo>
                      <a:pt x="533" y="267"/>
                    </a:lnTo>
                    <a:lnTo>
                      <a:pt x="516" y="262"/>
                    </a:lnTo>
                    <a:lnTo>
                      <a:pt x="499" y="257"/>
                    </a:lnTo>
                    <a:lnTo>
                      <a:pt x="479" y="257"/>
                    </a:lnTo>
                    <a:lnTo>
                      <a:pt x="462" y="252"/>
                    </a:lnTo>
                    <a:lnTo>
                      <a:pt x="446" y="247"/>
                    </a:lnTo>
                    <a:lnTo>
                      <a:pt x="433" y="242"/>
                    </a:lnTo>
                    <a:lnTo>
                      <a:pt x="417" y="237"/>
                    </a:lnTo>
                    <a:lnTo>
                      <a:pt x="400" y="232"/>
                    </a:lnTo>
                    <a:lnTo>
                      <a:pt x="384" y="232"/>
                    </a:lnTo>
                    <a:lnTo>
                      <a:pt x="367" y="227"/>
                    </a:lnTo>
                    <a:lnTo>
                      <a:pt x="355" y="222"/>
                    </a:lnTo>
                    <a:lnTo>
                      <a:pt x="338" y="217"/>
                    </a:lnTo>
                    <a:lnTo>
                      <a:pt x="326" y="212"/>
                    </a:lnTo>
                    <a:lnTo>
                      <a:pt x="309" y="208"/>
                    </a:lnTo>
                    <a:lnTo>
                      <a:pt x="297" y="203"/>
                    </a:lnTo>
                    <a:lnTo>
                      <a:pt x="280" y="198"/>
                    </a:lnTo>
                    <a:lnTo>
                      <a:pt x="268" y="193"/>
                    </a:lnTo>
                    <a:lnTo>
                      <a:pt x="256" y="188"/>
                    </a:lnTo>
                    <a:lnTo>
                      <a:pt x="243" y="183"/>
                    </a:lnTo>
                    <a:lnTo>
                      <a:pt x="231" y="178"/>
                    </a:lnTo>
                    <a:lnTo>
                      <a:pt x="219" y="173"/>
                    </a:lnTo>
                    <a:lnTo>
                      <a:pt x="206" y="168"/>
                    </a:lnTo>
                    <a:lnTo>
                      <a:pt x="194" y="163"/>
                    </a:lnTo>
                    <a:lnTo>
                      <a:pt x="181" y="158"/>
                    </a:lnTo>
                    <a:lnTo>
                      <a:pt x="173" y="153"/>
                    </a:lnTo>
                    <a:lnTo>
                      <a:pt x="161" y="148"/>
                    </a:lnTo>
                    <a:lnTo>
                      <a:pt x="148" y="143"/>
                    </a:lnTo>
                    <a:lnTo>
                      <a:pt x="140" y="134"/>
                    </a:lnTo>
                    <a:lnTo>
                      <a:pt x="128" y="129"/>
                    </a:lnTo>
                    <a:lnTo>
                      <a:pt x="119" y="124"/>
                    </a:lnTo>
                    <a:lnTo>
                      <a:pt x="111" y="119"/>
                    </a:lnTo>
                    <a:lnTo>
                      <a:pt x="103" y="114"/>
                    </a:lnTo>
                    <a:lnTo>
                      <a:pt x="95" y="109"/>
                    </a:lnTo>
                    <a:lnTo>
                      <a:pt x="86" y="99"/>
                    </a:lnTo>
                    <a:lnTo>
                      <a:pt x="78" y="94"/>
                    </a:lnTo>
                    <a:lnTo>
                      <a:pt x="70" y="89"/>
                    </a:lnTo>
                    <a:lnTo>
                      <a:pt x="62" y="84"/>
                    </a:lnTo>
                    <a:lnTo>
                      <a:pt x="53" y="79"/>
                    </a:lnTo>
                    <a:lnTo>
                      <a:pt x="49" y="69"/>
                    </a:lnTo>
                    <a:lnTo>
                      <a:pt x="41" y="65"/>
                    </a:lnTo>
                    <a:lnTo>
                      <a:pt x="37" y="60"/>
                    </a:lnTo>
                    <a:lnTo>
                      <a:pt x="33" y="55"/>
                    </a:lnTo>
                    <a:lnTo>
                      <a:pt x="24" y="45"/>
                    </a:lnTo>
                    <a:lnTo>
                      <a:pt x="20" y="40"/>
                    </a:lnTo>
                    <a:lnTo>
                      <a:pt x="16" y="35"/>
                    </a:lnTo>
                    <a:lnTo>
                      <a:pt x="12" y="25"/>
                    </a:lnTo>
                    <a:lnTo>
                      <a:pt x="8" y="20"/>
                    </a:lnTo>
                    <a:lnTo>
                      <a:pt x="4" y="15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390"/>
                    </a:lnTo>
                    <a:lnTo>
                      <a:pt x="4" y="400"/>
                    </a:lnTo>
                    <a:lnTo>
                      <a:pt x="4" y="405"/>
                    </a:lnTo>
                    <a:lnTo>
                      <a:pt x="8" y="410"/>
                    </a:lnTo>
                    <a:lnTo>
                      <a:pt x="12" y="415"/>
                    </a:lnTo>
                    <a:lnTo>
                      <a:pt x="16" y="424"/>
                    </a:lnTo>
                    <a:lnTo>
                      <a:pt x="20" y="429"/>
                    </a:lnTo>
                    <a:lnTo>
                      <a:pt x="24" y="434"/>
                    </a:lnTo>
                    <a:lnTo>
                      <a:pt x="33" y="444"/>
                    </a:lnTo>
                    <a:lnTo>
                      <a:pt x="37" y="449"/>
                    </a:lnTo>
                    <a:lnTo>
                      <a:pt x="41" y="454"/>
                    </a:lnTo>
                    <a:lnTo>
                      <a:pt x="49" y="459"/>
                    </a:lnTo>
                    <a:lnTo>
                      <a:pt x="53" y="469"/>
                    </a:lnTo>
                    <a:lnTo>
                      <a:pt x="62" y="474"/>
                    </a:lnTo>
                    <a:lnTo>
                      <a:pt x="70" y="479"/>
                    </a:lnTo>
                    <a:lnTo>
                      <a:pt x="78" y="484"/>
                    </a:lnTo>
                    <a:lnTo>
                      <a:pt x="86" y="489"/>
                    </a:lnTo>
                    <a:lnTo>
                      <a:pt x="95" y="498"/>
                    </a:lnTo>
                    <a:lnTo>
                      <a:pt x="103" y="503"/>
                    </a:lnTo>
                    <a:lnTo>
                      <a:pt x="111" y="508"/>
                    </a:lnTo>
                    <a:lnTo>
                      <a:pt x="119" y="513"/>
                    </a:lnTo>
                    <a:lnTo>
                      <a:pt x="128" y="518"/>
                    </a:lnTo>
                    <a:lnTo>
                      <a:pt x="140" y="523"/>
                    </a:lnTo>
                    <a:lnTo>
                      <a:pt x="148" y="533"/>
                    </a:lnTo>
                    <a:lnTo>
                      <a:pt x="161" y="538"/>
                    </a:lnTo>
                    <a:lnTo>
                      <a:pt x="173" y="543"/>
                    </a:lnTo>
                    <a:lnTo>
                      <a:pt x="181" y="548"/>
                    </a:lnTo>
                    <a:lnTo>
                      <a:pt x="194" y="553"/>
                    </a:lnTo>
                    <a:lnTo>
                      <a:pt x="206" y="558"/>
                    </a:lnTo>
                    <a:lnTo>
                      <a:pt x="219" y="563"/>
                    </a:lnTo>
                    <a:lnTo>
                      <a:pt x="231" y="567"/>
                    </a:lnTo>
                    <a:lnTo>
                      <a:pt x="243" y="572"/>
                    </a:lnTo>
                    <a:lnTo>
                      <a:pt x="256" y="577"/>
                    </a:lnTo>
                    <a:lnTo>
                      <a:pt x="268" y="582"/>
                    </a:lnTo>
                    <a:lnTo>
                      <a:pt x="280" y="587"/>
                    </a:lnTo>
                    <a:lnTo>
                      <a:pt x="297" y="592"/>
                    </a:lnTo>
                    <a:lnTo>
                      <a:pt x="309" y="597"/>
                    </a:lnTo>
                    <a:lnTo>
                      <a:pt x="326" y="602"/>
                    </a:lnTo>
                    <a:lnTo>
                      <a:pt x="338" y="607"/>
                    </a:lnTo>
                    <a:lnTo>
                      <a:pt x="355" y="612"/>
                    </a:lnTo>
                    <a:lnTo>
                      <a:pt x="367" y="617"/>
                    </a:lnTo>
                    <a:lnTo>
                      <a:pt x="384" y="622"/>
                    </a:lnTo>
                    <a:lnTo>
                      <a:pt x="400" y="622"/>
                    </a:lnTo>
                    <a:lnTo>
                      <a:pt x="417" y="627"/>
                    </a:lnTo>
                    <a:lnTo>
                      <a:pt x="433" y="632"/>
                    </a:lnTo>
                    <a:lnTo>
                      <a:pt x="446" y="636"/>
                    </a:lnTo>
                    <a:lnTo>
                      <a:pt x="462" y="641"/>
                    </a:lnTo>
                    <a:lnTo>
                      <a:pt x="479" y="646"/>
                    </a:lnTo>
                    <a:lnTo>
                      <a:pt x="499" y="646"/>
                    </a:lnTo>
                    <a:lnTo>
                      <a:pt x="516" y="651"/>
                    </a:lnTo>
                    <a:lnTo>
                      <a:pt x="533" y="656"/>
                    </a:lnTo>
                    <a:lnTo>
                      <a:pt x="549" y="656"/>
                    </a:lnTo>
                    <a:lnTo>
                      <a:pt x="566" y="661"/>
                    </a:lnTo>
                    <a:lnTo>
                      <a:pt x="586" y="666"/>
                    </a:lnTo>
                    <a:lnTo>
                      <a:pt x="603" y="666"/>
                    </a:lnTo>
                    <a:lnTo>
                      <a:pt x="623" y="671"/>
                    </a:lnTo>
                    <a:lnTo>
                      <a:pt x="640" y="676"/>
                    </a:lnTo>
                    <a:lnTo>
                      <a:pt x="661" y="676"/>
                    </a:lnTo>
                    <a:lnTo>
                      <a:pt x="677" y="681"/>
                    </a:lnTo>
                    <a:lnTo>
                      <a:pt x="698" y="681"/>
                    </a:lnTo>
                    <a:lnTo>
                      <a:pt x="714" y="686"/>
                    </a:lnTo>
                    <a:lnTo>
                      <a:pt x="735" y="686"/>
                    </a:lnTo>
                    <a:lnTo>
                      <a:pt x="756" y="691"/>
                    </a:lnTo>
                    <a:lnTo>
                      <a:pt x="772" y="691"/>
                    </a:lnTo>
                    <a:lnTo>
                      <a:pt x="793" y="696"/>
                    </a:lnTo>
                    <a:lnTo>
                      <a:pt x="813" y="696"/>
                    </a:lnTo>
                    <a:lnTo>
                      <a:pt x="834" y="696"/>
                    </a:lnTo>
                    <a:lnTo>
                      <a:pt x="851" y="701"/>
                    </a:lnTo>
                    <a:lnTo>
                      <a:pt x="871" y="701"/>
                    </a:lnTo>
                    <a:lnTo>
                      <a:pt x="892" y="705"/>
                    </a:lnTo>
                    <a:lnTo>
                      <a:pt x="913" y="705"/>
                    </a:lnTo>
                    <a:lnTo>
                      <a:pt x="933" y="705"/>
                    </a:lnTo>
                    <a:lnTo>
                      <a:pt x="954" y="705"/>
                    </a:lnTo>
                    <a:lnTo>
                      <a:pt x="975" y="710"/>
                    </a:lnTo>
                    <a:lnTo>
                      <a:pt x="995" y="710"/>
                    </a:lnTo>
                    <a:lnTo>
                      <a:pt x="1016" y="710"/>
                    </a:lnTo>
                    <a:lnTo>
                      <a:pt x="1037" y="710"/>
                    </a:lnTo>
                    <a:lnTo>
                      <a:pt x="1057" y="710"/>
                    </a:lnTo>
                    <a:lnTo>
                      <a:pt x="1078" y="710"/>
                    </a:lnTo>
                    <a:lnTo>
                      <a:pt x="1099" y="715"/>
                    </a:lnTo>
                    <a:lnTo>
                      <a:pt x="1119" y="715"/>
                    </a:lnTo>
                    <a:lnTo>
                      <a:pt x="1140" y="715"/>
                    </a:lnTo>
                    <a:lnTo>
                      <a:pt x="1161" y="715"/>
                    </a:lnTo>
                    <a:lnTo>
                      <a:pt x="1181" y="715"/>
                    </a:lnTo>
                    <a:lnTo>
                      <a:pt x="1202" y="715"/>
                    </a:lnTo>
                    <a:lnTo>
                      <a:pt x="1223" y="715"/>
                    </a:lnTo>
                    <a:lnTo>
                      <a:pt x="1243" y="715"/>
                    </a:lnTo>
                    <a:lnTo>
                      <a:pt x="1264" y="715"/>
                    </a:lnTo>
                    <a:lnTo>
                      <a:pt x="1264" y="326"/>
                    </a:lnTo>
                    <a:close/>
                  </a:path>
                </a:pathLst>
              </a:custGeom>
              <a:solidFill>
                <a:srgbClr val="4d66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69"/>
              <p:cNvSpPr/>
              <p:nvPr/>
            </p:nvSpPr>
            <p:spPr>
              <a:xfrm rot="3500400">
                <a:off x="5759280" y="2288160"/>
                <a:ext cx="1278720" cy="356760"/>
              </a:xfrm>
              <a:custGeom>
                <a:avLst/>
                <a:gdLst/>
                <a:ahLst/>
                <a:rect l="l" t="t" r="r" b="b"/>
                <a:pathLst>
                  <a:path w="1264" h="370">
                    <a:moveTo>
                      <a:pt x="1264" y="370"/>
                    </a:moveTo>
                    <a:lnTo>
                      <a:pt x="1243" y="370"/>
                    </a:lnTo>
                    <a:lnTo>
                      <a:pt x="1223" y="370"/>
                    </a:lnTo>
                    <a:lnTo>
                      <a:pt x="1202" y="370"/>
                    </a:lnTo>
                    <a:lnTo>
                      <a:pt x="1181" y="370"/>
                    </a:lnTo>
                    <a:lnTo>
                      <a:pt x="1161" y="370"/>
                    </a:lnTo>
                    <a:lnTo>
                      <a:pt x="1140" y="370"/>
                    </a:lnTo>
                    <a:lnTo>
                      <a:pt x="1119" y="370"/>
                    </a:lnTo>
                    <a:lnTo>
                      <a:pt x="1099" y="370"/>
                    </a:lnTo>
                    <a:lnTo>
                      <a:pt x="1078" y="365"/>
                    </a:lnTo>
                    <a:lnTo>
                      <a:pt x="1057" y="365"/>
                    </a:lnTo>
                    <a:lnTo>
                      <a:pt x="1037" y="365"/>
                    </a:lnTo>
                    <a:lnTo>
                      <a:pt x="1016" y="365"/>
                    </a:lnTo>
                    <a:lnTo>
                      <a:pt x="995" y="365"/>
                    </a:lnTo>
                    <a:lnTo>
                      <a:pt x="975" y="365"/>
                    </a:lnTo>
                    <a:lnTo>
                      <a:pt x="954" y="360"/>
                    </a:lnTo>
                    <a:lnTo>
                      <a:pt x="933" y="360"/>
                    </a:lnTo>
                    <a:lnTo>
                      <a:pt x="913" y="360"/>
                    </a:lnTo>
                    <a:lnTo>
                      <a:pt x="892" y="360"/>
                    </a:lnTo>
                    <a:lnTo>
                      <a:pt x="871" y="355"/>
                    </a:lnTo>
                    <a:lnTo>
                      <a:pt x="851" y="355"/>
                    </a:lnTo>
                    <a:lnTo>
                      <a:pt x="834" y="350"/>
                    </a:lnTo>
                    <a:lnTo>
                      <a:pt x="813" y="350"/>
                    </a:lnTo>
                    <a:lnTo>
                      <a:pt x="793" y="350"/>
                    </a:lnTo>
                    <a:lnTo>
                      <a:pt x="772" y="345"/>
                    </a:lnTo>
                    <a:lnTo>
                      <a:pt x="756" y="345"/>
                    </a:lnTo>
                    <a:lnTo>
                      <a:pt x="735" y="340"/>
                    </a:lnTo>
                    <a:lnTo>
                      <a:pt x="714" y="340"/>
                    </a:lnTo>
                    <a:lnTo>
                      <a:pt x="698" y="335"/>
                    </a:lnTo>
                    <a:lnTo>
                      <a:pt x="677" y="335"/>
                    </a:lnTo>
                    <a:lnTo>
                      <a:pt x="661" y="330"/>
                    </a:lnTo>
                    <a:lnTo>
                      <a:pt x="640" y="330"/>
                    </a:lnTo>
                    <a:lnTo>
                      <a:pt x="623" y="325"/>
                    </a:lnTo>
                    <a:lnTo>
                      <a:pt x="603" y="321"/>
                    </a:lnTo>
                    <a:lnTo>
                      <a:pt x="586" y="321"/>
                    </a:lnTo>
                    <a:lnTo>
                      <a:pt x="566" y="316"/>
                    </a:lnTo>
                    <a:lnTo>
                      <a:pt x="549" y="311"/>
                    </a:lnTo>
                    <a:lnTo>
                      <a:pt x="533" y="311"/>
                    </a:lnTo>
                    <a:lnTo>
                      <a:pt x="516" y="306"/>
                    </a:lnTo>
                    <a:lnTo>
                      <a:pt x="499" y="301"/>
                    </a:lnTo>
                    <a:lnTo>
                      <a:pt x="479" y="301"/>
                    </a:lnTo>
                    <a:lnTo>
                      <a:pt x="462" y="296"/>
                    </a:lnTo>
                    <a:lnTo>
                      <a:pt x="446" y="291"/>
                    </a:lnTo>
                    <a:lnTo>
                      <a:pt x="433" y="286"/>
                    </a:lnTo>
                    <a:lnTo>
                      <a:pt x="417" y="281"/>
                    </a:lnTo>
                    <a:lnTo>
                      <a:pt x="400" y="276"/>
                    </a:lnTo>
                    <a:lnTo>
                      <a:pt x="384" y="276"/>
                    </a:lnTo>
                    <a:lnTo>
                      <a:pt x="367" y="271"/>
                    </a:lnTo>
                    <a:lnTo>
                      <a:pt x="355" y="266"/>
                    </a:lnTo>
                    <a:lnTo>
                      <a:pt x="338" y="261"/>
                    </a:lnTo>
                    <a:lnTo>
                      <a:pt x="326" y="256"/>
                    </a:lnTo>
                    <a:lnTo>
                      <a:pt x="309" y="252"/>
                    </a:lnTo>
                    <a:lnTo>
                      <a:pt x="297" y="247"/>
                    </a:lnTo>
                    <a:lnTo>
                      <a:pt x="280" y="242"/>
                    </a:lnTo>
                    <a:lnTo>
                      <a:pt x="268" y="237"/>
                    </a:lnTo>
                    <a:lnTo>
                      <a:pt x="256" y="232"/>
                    </a:lnTo>
                    <a:lnTo>
                      <a:pt x="243" y="227"/>
                    </a:lnTo>
                    <a:lnTo>
                      <a:pt x="231" y="222"/>
                    </a:lnTo>
                    <a:lnTo>
                      <a:pt x="219" y="217"/>
                    </a:lnTo>
                    <a:lnTo>
                      <a:pt x="206" y="212"/>
                    </a:lnTo>
                    <a:lnTo>
                      <a:pt x="194" y="207"/>
                    </a:lnTo>
                    <a:lnTo>
                      <a:pt x="181" y="202"/>
                    </a:lnTo>
                    <a:lnTo>
                      <a:pt x="173" y="197"/>
                    </a:lnTo>
                    <a:lnTo>
                      <a:pt x="161" y="192"/>
                    </a:lnTo>
                    <a:lnTo>
                      <a:pt x="148" y="187"/>
                    </a:lnTo>
                    <a:lnTo>
                      <a:pt x="140" y="178"/>
                    </a:lnTo>
                    <a:lnTo>
                      <a:pt x="128" y="173"/>
                    </a:lnTo>
                    <a:lnTo>
                      <a:pt x="119" y="168"/>
                    </a:lnTo>
                    <a:lnTo>
                      <a:pt x="111" y="163"/>
                    </a:lnTo>
                    <a:lnTo>
                      <a:pt x="103" y="158"/>
                    </a:lnTo>
                    <a:lnTo>
                      <a:pt x="95" y="153"/>
                    </a:lnTo>
                    <a:lnTo>
                      <a:pt x="86" y="143"/>
                    </a:lnTo>
                    <a:lnTo>
                      <a:pt x="78" y="138"/>
                    </a:lnTo>
                    <a:lnTo>
                      <a:pt x="70" y="133"/>
                    </a:lnTo>
                    <a:lnTo>
                      <a:pt x="62" y="128"/>
                    </a:lnTo>
                    <a:lnTo>
                      <a:pt x="53" y="123"/>
                    </a:lnTo>
                    <a:lnTo>
                      <a:pt x="49" y="113"/>
                    </a:lnTo>
                    <a:lnTo>
                      <a:pt x="41" y="109"/>
                    </a:lnTo>
                    <a:lnTo>
                      <a:pt x="37" y="104"/>
                    </a:lnTo>
                    <a:lnTo>
                      <a:pt x="33" y="99"/>
                    </a:lnTo>
                    <a:lnTo>
                      <a:pt x="24" y="89"/>
                    </a:lnTo>
                    <a:lnTo>
                      <a:pt x="20" y="84"/>
                    </a:lnTo>
                    <a:lnTo>
                      <a:pt x="16" y="79"/>
                    </a:lnTo>
                    <a:lnTo>
                      <a:pt x="12" y="69"/>
                    </a:lnTo>
                    <a:lnTo>
                      <a:pt x="8" y="64"/>
                    </a:lnTo>
                    <a:lnTo>
                      <a:pt x="4" y="59"/>
                    </a:lnTo>
                    <a:lnTo>
                      <a:pt x="4" y="54"/>
                    </a:lnTo>
                    <a:lnTo>
                      <a:pt x="0" y="44"/>
                    </a:lnTo>
                    <a:lnTo>
                      <a:pt x="1181" y="0"/>
                    </a:lnTo>
                    <a:lnTo>
                      <a:pt x="1264" y="370"/>
                    </a:lnTo>
                    <a:close/>
                  </a:path>
                </a:pathLst>
              </a:custGeom>
              <a:solidFill>
                <a:srgbClr val="99cc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70"/>
            <p:cNvSpPr/>
            <p:nvPr/>
          </p:nvSpPr>
          <p:spPr>
            <a:xfrm>
              <a:off x="6539400" y="4220280"/>
              <a:ext cx="206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  <a:ea typeface="Arial"/>
                </a:rPr>
                <a:t>S. Africa Indian Ocean - 24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71"/>
            <p:cNvSpPr/>
            <p:nvPr/>
          </p:nvSpPr>
          <p:spPr>
            <a:xfrm>
              <a:off x="5934240" y="1477800"/>
              <a:ext cx="1880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  <a:ea typeface="Arial"/>
                </a:rPr>
                <a:t>W. Africa &amp; Sahel – 24%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72"/>
            <p:cNvSpPr/>
            <p:nvPr/>
          </p:nvSpPr>
          <p:spPr>
            <a:xfrm>
              <a:off x="7322760" y="2608920"/>
              <a:ext cx="1421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ibbean &amp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GB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ific - 1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3"/>
            <p:cNvSpPr/>
            <p:nvPr/>
          </p:nvSpPr>
          <p:spPr>
            <a:xfrm>
              <a:off x="7007040" y="2125080"/>
              <a:ext cx="1514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  <a:ea typeface="Arial"/>
                </a:rPr>
                <a:t>C&amp;E Africa - 25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74"/>
            <p:cNvSpPr/>
            <p:nvPr/>
          </p:nvSpPr>
          <p:spPr>
            <a:xfrm>
              <a:off x="7469640" y="3416400"/>
              <a:ext cx="119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  <a:ea typeface="Arial"/>
                </a:rPr>
                <a:t>Regiona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  <a:ea typeface="Arial"/>
                </a:rPr>
                <a:t>ACP - 17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89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421" name="Text Box 90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91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EIB Activities in the Pacif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99"/>
          <p:cNvSpPr/>
          <p:nvPr/>
        </p:nvSpPr>
        <p:spPr>
          <a:xfrm>
            <a:off x="501480" y="98100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EIB in the Pacific (last 25yrs - EUR 312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3718-F018-4B59-A93D-30385919BBC2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2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427" name="Text Box 3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4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cc"/>
                  </a:solidFill>
                  <a:latin typeface="Arial"/>
                </a:rPr>
                <a:t>EIB Activities in the Pacif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 Box 5"/>
          <p:cNvSpPr/>
          <p:nvPr/>
        </p:nvSpPr>
        <p:spPr>
          <a:xfrm>
            <a:off x="971640" y="98100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Eligible Beneficiaries: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971640" y="1916280"/>
            <a:ext cx="7777080" cy="64260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Priv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entrepreneurs and commercially-run public sector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971640" y="3032280"/>
            <a:ext cx="777708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Investment funds and other financial intermedi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971640" y="3875040"/>
            <a:ext cx="777708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1125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ACP and international entrepren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71640" y="4718160"/>
            <a:ext cx="777708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Large enterprises, SMEs and Micro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D4CD-15F5-4B02-981C-A1A9784CF6EC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6"/>
          <p:cNvSpPr/>
          <p:nvPr/>
        </p:nvSpPr>
        <p:spPr>
          <a:xfrm>
            <a:off x="971640" y="3716280"/>
            <a:ext cx="7921440" cy="266544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4"/>
          <p:cNvSpPr/>
          <p:nvPr/>
        </p:nvSpPr>
        <p:spPr>
          <a:xfrm>
            <a:off x="971640" y="4691160"/>
            <a:ext cx="792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SzPct val="102812"/>
              <a:buBlip>
                <a:blip r:embed="rId1"/>
              </a:buBlip>
              <a:tabLst>
                <a:tab algn="l" pos="36180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Climate Action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(24%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2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439" name="Text Box 3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4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cc"/>
                  </a:solidFill>
                  <a:latin typeface="Arial"/>
                </a:rPr>
                <a:t>EIB Activities in the Pacif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Text Box 5"/>
          <p:cNvSpPr/>
          <p:nvPr/>
        </p:nvSpPr>
        <p:spPr>
          <a:xfrm>
            <a:off x="971640" y="98100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Focal Sectors for EIB under Cotonou Agreement &amp; </a:t>
            </a:r>
            <a:br>
              <a:rPr sz="2000"/>
            </a:b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OCT Overseas Association Decision  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971640" y="2043000"/>
            <a:ext cx="7921440" cy="3682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Strateg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7"/>
          <p:cNvSpPr/>
          <p:nvPr/>
        </p:nvSpPr>
        <p:spPr>
          <a:xfrm>
            <a:off x="971640" y="3716280"/>
            <a:ext cx="7921440" cy="3682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Prioriti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8"/>
          <p:cNvSpPr/>
          <p:nvPr/>
        </p:nvSpPr>
        <p:spPr>
          <a:xfrm>
            <a:off x="971640" y="4005360"/>
            <a:ext cx="792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SzPct val="102812"/>
              <a:buBlip>
                <a:blip r:embed="rId2"/>
              </a:buBlip>
              <a:tabLst>
                <a:tab algn="l" pos="361800"/>
                <a:tab algn="l" pos="2333520"/>
                <a:tab algn="l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Private sector support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(60%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9"/>
          <p:cNvSpPr/>
          <p:nvPr/>
        </p:nvSpPr>
        <p:spPr>
          <a:xfrm>
            <a:off x="971640" y="4348080"/>
            <a:ext cx="792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SzPct val="102812"/>
              <a:buBlip>
                <a:blip r:embed="rId3"/>
              </a:buBlip>
              <a:tabLst>
                <a:tab algn="l" pos="361800"/>
                <a:tab algn="l" pos="2333520"/>
                <a:tab algn="l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Regional dimension/integration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(17%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0"/>
          <p:cNvSpPr/>
          <p:nvPr/>
        </p:nvSpPr>
        <p:spPr>
          <a:xfrm rot="8108400">
            <a:off x="4139640" y="2545920"/>
            <a:ext cx="360360" cy="360360"/>
          </a:xfrm>
          <a:custGeom>
            <a:avLst/>
            <a:gdLst>
              <a:gd name="textAreaLeft" fmla="*/ 56160 w 360360"/>
              <a:gd name="textAreaRight" fmla="*/ 315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21"/>
          <p:cNvSpPr/>
          <p:nvPr/>
        </p:nvSpPr>
        <p:spPr>
          <a:xfrm rot="3425400">
            <a:off x="5148000" y="2540160"/>
            <a:ext cx="360360" cy="360360"/>
          </a:xfrm>
          <a:custGeom>
            <a:avLst/>
            <a:gdLst>
              <a:gd name="textAreaLeft" fmla="*/ 56160 w 360360"/>
              <a:gd name="textAreaRight" fmla="*/ 315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2"/>
          <p:cNvSpPr/>
          <p:nvPr/>
        </p:nvSpPr>
        <p:spPr>
          <a:xfrm>
            <a:off x="971640" y="3030480"/>
            <a:ext cx="3744720" cy="668520"/>
          </a:xfrm>
          <a:prstGeom prst="rect">
            <a:avLst/>
          </a:prstGeom>
          <a:solidFill>
            <a:srgbClr val="99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3"/>
          <p:cNvSpPr/>
          <p:nvPr/>
        </p:nvSpPr>
        <p:spPr>
          <a:xfrm>
            <a:off x="5148360" y="3030480"/>
            <a:ext cx="3744720" cy="669960"/>
          </a:xfrm>
          <a:prstGeom prst="rect">
            <a:avLst/>
          </a:prstGeom>
          <a:solidFill>
            <a:srgbClr val="99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Financial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971640" y="5033160"/>
            <a:ext cx="7921440" cy="39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SzPct val="102812"/>
              <a:buBlip>
                <a:blip r:embed="rId4"/>
              </a:buBlip>
              <a:tabLst>
                <a:tab algn="l" pos="36180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Co-financed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(65%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7"/>
          <p:cNvSpPr/>
          <p:nvPr/>
        </p:nvSpPr>
        <p:spPr>
          <a:xfrm>
            <a:off x="971640" y="5443560"/>
            <a:ext cx="792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spcBef>
                <a:spcPts val="1001"/>
              </a:spcBef>
              <a:buSzPct val="102812"/>
              <a:buBlip>
                <a:blip r:embed="rId5"/>
              </a:buBlip>
              <a:tabLst>
                <a:tab algn="l" pos="36180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Green Growth: </a:t>
            </a:r>
            <a:br>
              <a:rPr sz="1600"/>
            </a:b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GEEREF (Global Energy Efficiency and Renewable Energy Fun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8"/>
          <p:cNvSpPr/>
          <p:nvPr/>
        </p:nvSpPr>
        <p:spPr>
          <a:xfrm>
            <a:off x="971640" y="5987880"/>
            <a:ext cx="792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SzPct val="102812"/>
              <a:buBlip>
                <a:blip r:embed="rId6"/>
              </a:buBlip>
              <a:tabLst>
                <a:tab algn="l" pos="36180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Growth/development: job creation and poverty alleviation (ESIAF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B5F4-ABAD-49F4-A072-B8252B723772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2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456" name="Text Box 3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4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EIB Activities in the Pacif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8" name=""/>
          <p:cNvGraphicFramePr/>
          <p:nvPr/>
        </p:nvGraphicFramePr>
        <p:xfrm>
          <a:off x="324000" y="1341360"/>
          <a:ext cx="8569080" cy="5157720"/>
        </p:xfrm>
        <a:graphic>
          <a:graphicData uri="http://schemas.openxmlformats.org/drawingml/2006/table">
            <a:tbl>
              <a:tblPr/>
              <a:tblGrid>
                <a:gridCol w="1081080"/>
                <a:gridCol w="1385640"/>
                <a:gridCol w="3559320"/>
                <a:gridCol w="901800"/>
                <a:gridCol w="820440"/>
                <a:gridCol w="820800"/>
              </a:tblGrid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atur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bur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cell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o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OA VENTURE CAPITAL FU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86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5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,77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val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T GL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j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OTEL DENARAU PROJECT (I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00,86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03,25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,77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FIC ISLANDS FINANCING FAC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FIC ISLANDS FINANCING FACILITY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2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29,17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70,82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29,17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om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OMBANGARA FOREST PROJ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25,34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4,65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A FUND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88,19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70,97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FIC ISLANDS FINANCING FACILITY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60,57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39,42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488,19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56,89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14,08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 Polynes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REDO LIGNE DE CREDIT ENVIRONN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28,69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71,31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Caledo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I - LIGNE DE CREDIT ENVIRONNEMEN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28,69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71,31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155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ND (DIGICEL SAMO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96,50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,49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ND B (DIGICEL VANUATU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91,84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,15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ND C (DIGICEL TONG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51,90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,09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ND D (DIGICEL FIJI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13,38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6,61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1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53,63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46,36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FIC ISLANDS FINANCING FACILITY II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ua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ELCO WIND POW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 Polynes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GEN - LIGNE DE CREDIT ENVIRONNEMEN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155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 Polynes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REDO LIGNE ENVIRONNEMENTALE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FIC ISLANDS FINANCING FACILITY II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FIC ISLANDS FINANCING FACILITY II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Caledo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-LIGNE DE CREDIT ENVIRONNEMENTALE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 Polynes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hiti Centre Hospitalier SWA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576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576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576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689,0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576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463,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576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346,7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576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  <p:sp>
        <p:nvSpPr>
          <p:cNvPr id="459" name="Text Box 5"/>
          <p:cNvSpPr/>
          <p:nvPr/>
        </p:nvSpPr>
        <p:spPr>
          <a:xfrm>
            <a:off x="971640" y="98100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Loan Approvals 2004 – 2012: +/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EUR 18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F023-05CF-4B21-8A8D-47A98C428BC1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2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463" name="Text Box 3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cc"/>
                  </a:solidFill>
                  <a:latin typeface="Arial"/>
                </a:rPr>
                <a:t>EIB Activities in the Pacif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5"/>
          <p:cNvSpPr/>
          <p:nvPr/>
        </p:nvSpPr>
        <p:spPr>
          <a:xfrm>
            <a:off x="971640" y="98100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Project Example 1: Digicel Pacific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51"/>
          <p:cNvGrpSpPr/>
          <p:nvPr/>
        </p:nvGrpSpPr>
        <p:grpSpPr>
          <a:xfrm>
            <a:off x="971640" y="2060640"/>
            <a:ext cx="3600360" cy="337320"/>
            <a:chOff x="971640" y="2060640"/>
            <a:chExt cx="3600360" cy="337320"/>
          </a:xfrm>
        </p:grpSpPr>
        <p:sp>
          <p:nvSpPr>
            <p:cNvPr id="467" name="Text Box 31"/>
            <p:cNvSpPr/>
            <p:nvPr/>
          </p:nvSpPr>
          <p:spPr>
            <a:xfrm>
              <a:off x="971640" y="2060640"/>
              <a:ext cx="1800000" cy="337320"/>
            </a:xfrm>
            <a:prstGeom prst="rect">
              <a:avLst/>
            </a:prstGeom>
            <a:solidFill>
              <a:srgbClr val="96969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otal Project Cos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32"/>
            <p:cNvSpPr/>
            <p:nvPr/>
          </p:nvSpPr>
          <p:spPr>
            <a:xfrm>
              <a:off x="3348000" y="2060640"/>
              <a:ext cx="122400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SD 129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3"/>
            <p:cNvSpPr/>
            <p:nvPr/>
          </p:nvSpPr>
          <p:spPr>
            <a:xfrm>
              <a:off x="2843280" y="2156040"/>
              <a:ext cx="360360" cy="144360"/>
            </a:xfrm>
            <a:prstGeom prst="rightArrow">
              <a:avLst>
                <a:gd name="adj1" fmla="val 50000"/>
                <a:gd name="adj2" fmla="val 6240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50"/>
          <p:cNvGrpSpPr/>
          <p:nvPr/>
        </p:nvGrpSpPr>
        <p:grpSpPr>
          <a:xfrm>
            <a:off x="971640" y="2690640"/>
            <a:ext cx="3600360" cy="337320"/>
            <a:chOff x="971640" y="2690640"/>
            <a:chExt cx="3600360" cy="337320"/>
          </a:xfrm>
        </p:grpSpPr>
        <p:sp>
          <p:nvSpPr>
            <p:cNvPr id="471" name="Text Box 34"/>
            <p:cNvSpPr/>
            <p:nvPr/>
          </p:nvSpPr>
          <p:spPr>
            <a:xfrm>
              <a:off x="971640" y="2690640"/>
              <a:ext cx="1800000" cy="337320"/>
            </a:xfrm>
            <a:prstGeom prst="rect">
              <a:avLst/>
            </a:prstGeom>
            <a:solidFill>
              <a:srgbClr val="96969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IB Finan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35"/>
            <p:cNvSpPr/>
            <p:nvPr/>
          </p:nvSpPr>
          <p:spPr>
            <a:xfrm>
              <a:off x="3348000" y="2690640"/>
              <a:ext cx="122400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SD   40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36"/>
            <p:cNvSpPr/>
            <p:nvPr/>
          </p:nvSpPr>
          <p:spPr>
            <a:xfrm>
              <a:off x="2843280" y="2786040"/>
              <a:ext cx="360360" cy="144360"/>
            </a:xfrm>
            <a:prstGeom prst="rightArrow">
              <a:avLst>
                <a:gd name="adj1" fmla="val 50000"/>
                <a:gd name="adj2" fmla="val 6240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37"/>
          <p:cNvSpPr/>
          <p:nvPr/>
        </p:nvSpPr>
        <p:spPr>
          <a:xfrm>
            <a:off x="971640" y="4149720"/>
            <a:ext cx="1800000" cy="337320"/>
          </a:xfrm>
          <a:prstGeom prst="rect">
            <a:avLst/>
          </a:prstGeom>
          <a:solidFill>
            <a:srgbClr val="96969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8"/>
          <p:cNvSpPr/>
          <p:nvPr/>
        </p:nvSpPr>
        <p:spPr>
          <a:xfrm>
            <a:off x="3348000" y="4149720"/>
            <a:ext cx="5545080" cy="5806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pansion of existing telecommunications networks and introduction of competition in several market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39"/>
          <p:cNvSpPr/>
          <p:nvPr/>
        </p:nvSpPr>
        <p:spPr>
          <a:xfrm>
            <a:off x="2843280" y="425916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45"/>
          <p:cNvGrpSpPr/>
          <p:nvPr/>
        </p:nvGrpSpPr>
        <p:grpSpPr>
          <a:xfrm>
            <a:off x="971640" y="3500280"/>
            <a:ext cx="7921440" cy="337320"/>
            <a:chOff x="971640" y="3500280"/>
            <a:chExt cx="7921440" cy="337320"/>
          </a:xfrm>
        </p:grpSpPr>
        <p:sp>
          <p:nvSpPr>
            <p:cNvPr id="478" name="Text Box 40"/>
            <p:cNvSpPr/>
            <p:nvPr/>
          </p:nvSpPr>
          <p:spPr>
            <a:xfrm>
              <a:off x="971640" y="3500280"/>
              <a:ext cx="1800000" cy="337320"/>
            </a:xfrm>
            <a:prstGeom prst="rect">
              <a:avLst/>
            </a:prstGeom>
            <a:solidFill>
              <a:srgbClr val="96969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untr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41"/>
            <p:cNvSpPr/>
            <p:nvPr/>
          </p:nvSpPr>
          <p:spPr>
            <a:xfrm>
              <a:off x="3348000" y="3500280"/>
              <a:ext cx="554508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iji, Vanuatu, Tonga &amp; Cook Islan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42"/>
            <p:cNvSpPr/>
            <p:nvPr/>
          </p:nvSpPr>
          <p:spPr>
            <a:xfrm>
              <a:off x="2843280" y="3595680"/>
              <a:ext cx="360360" cy="144360"/>
            </a:xfrm>
            <a:prstGeom prst="rightArrow">
              <a:avLst>
                <a:gd name="adj1" fmla="val 50000"/>
                <a:gd name="adj2" fmla="val 6240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47"/>
          <p:cNvGrpSpPr/>
          <p:nvPr/>
        </p:nvGrpSpPr>
        <p:grpSpPr>
          <a:xfrm>
            <a:off x="971640" y="5013360"/>
            <a:ext cx="7921440" cy="818640"/>
            <a:chOff x="971640" y="5013360"/>
            <a:chExt cx="7921440" cy="818640"/>
          </a:xfrm>
        </p:grpSpPr>
        <p:sp>
          <p:nvSpPr>
            <p:cNvPr id="482" name="Text Box 22"/>
            <p:cNvSpPr/>
            <p:nvPr/>
          </p:nvSpPr>
          <p:spPr>
            <a:xfrm>
              <a:off x="971640" y="5013360"/>
              <a:ext cx="1800000" cy="337320"/>
            </a:xfrm>
            <a:prstGeom prst="rect">
              <a:avLst/>
            </a:prstGeom>
            <a:solidFill>
              <a:srgbClr val="96969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3"/>
            <p:cNvSpPr/>
            <p:nvPr/>
          </p:nvSpPr>
          <p:spPr>
            <a:xfrm>
              <a:off x="3348000" y="5013360"/>
              <a:ext cx="554508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mproved coverage &amp; service levels in mobile commun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27"/>
            <p:cNvSpPr/>
            <p:nvPr/>
          </p:nvSpPr>
          <p:spPr>
            <a:xfrm>
              <a:off x="2843280" y="5110200"/>
              <a:ext cx="360360" cy="144720"/>
            </a:xfrm>
            <a:prstGeom prst="rightArrow">
              <a:avLst>
                <a:gd name="adj1" fmla="val 50000"/>
                <a:gd name="adj2" fmla="val 6225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3"/>
            <p:cNvSpPr/>
            <p:nvPr/>
          </p:nvSpPr>
          <p:spPr>
            <a:xfrm>
              <a:off x="3348000" y="5494680"/>
              <a:ext cx="554508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evelopment of a competitive GSM mobile 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6" name="Picture 53" descr="6"/>
          <p:cNvPicPr/>
          <p:nvPr/>
        </p:nvPicPr>
        <p:blipFill>
          <a:blip r:embed="rId1"/>
          <a:stretch/>
        </p:blipFill>
        <p:spPr>
          <a:xfrm>
            <a:off x="5040360" y="1916280"/>
            <a:ext cx="1619280" cy="121896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pic>
        <p:nvPicPr>
          <p:cNvPr id="487" name="Picture 56" descr="10"/>
          <p:cNvPicPr/>
          <p:nvPr/>
        </p:nvPicPr>
        <p:blipFill>
          <a:blip r:embed="rId2"/>
          <a:stretch/>
        </p:blipFill>
        <p:spPr>
          <a:xfrm>
            <a:off x="7061040" y="1916280"/>
            <a:ext cx="1832040" cy="122868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36D3-0D60-443D-8A0D-2C7F095CA5BD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132000" y="3735360"/>
            <a:ext cx="5616720" cy="5806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vision of subsidised financing resources for investments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renewable energy &amp; energy efficienc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2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492" name="Text Box 3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4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EIB Activities in the Pacif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5"/>
          <p:cNvSpPr/>
          <p:nvPr/>
        </p:nvSpPr>
        <p:spPr>
          <a:xfrm>
            <a:off x="971640" y="981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Project Example 2: Environmental Lines of Cred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7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3024000" cy="187308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pic>
        <p:nvPicPr>
          <p:cNvPr id="496" name="Picture 8" descr="Kramer Junction"/>
          <p:cNvPicPr/>
          <p:nvPr/>
        </p:nvPicPr>
        <p:blipFill>
          <a:blip r:embed="rId2"/>
          <a:stretch/>
        </p:blipFill>
        <p:spPr>
          <a:xfrm>
            <a:off x="971640" y="5084640"/>
            <a:ext cx="7921440" cy="126684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sp>
        <p:nvSpPr>
          <p:cNvPr id="497" name="Text Box 26"/>
          <p:cNvSpPr/>
          <p:nvPr/>
        </p:nvSpPr>
        <p:spPr>
          <a:xfrm>
            <a:off x="4284720" y="1700280"/>
            <a:ext cx="4464000" cy="337320"/>
          </a:xfrm>
          <a:prstGeom prst="rect">
            <a:avLst/>
          </a:prstGeom>
          <a:solidFill>
            <a:srgbClr val="96969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IB 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60"/>
          <p:cNvGrpSpPr/>
          <p:nvPr/>
        </p:nvGrpSpPr>
        <p:grpSpPr>
          <a:xfrm>
            <a:off x="4284720" y="2084400"/>
            <a:ext cx="4464000" cy="337320"/>
            <a:chOff x="4284720" y="2084400"/>
            <a:chExt cx="4464000" cy="337320"/>
          </a:xfrm>
        </p:grpSpPr>
        <p:sp>
          <p:nvSpPr>
            <p:cNvPr id="499" name="Text Box 27"/>
            <p:cNvSpPr/>
            <p:nvPr/>
          </p:nvSpPr>
          <p:spPr>
            <a:xfrm>
              <a:off x="7524720" y="2084400"/>
              <a:ext cx="122400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UR   10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28"/>
            <p:cNvSpPr/>
            <p:nvPr/>
          </p:nvSpPr>
          <p:spPr>
            <a:xfrm>
              <a:off x="7020000" y="2179440"/>
              <a:ext cx="360360" cy="144720"/>
            </a:xfrm>
            <a:prstGeom prst="rightArrow">
              <a:avLst>
                <a:gd name="adj1" fmla="val 50000"/>
                <a:gd name="adj2" fmla="val 6225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29"/>
            <p:cNvSpPr/>
            <p:nvPr/>
          </p:nvSpPr>
          <p:spPr>
            <a:xfrm>
              <a:off x="4284720" y="2084400"/>
              <a:ext cx="266364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anque de Polynési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59"/>
          <p:cNvGrpSpPr/>
          <p:nvPr/>
        </p:nvGrpSpPr>
        <p:grpSpPr>
          <a:xfrm>
            <a:off x="4284720" y="2468520"/>
            <a:ext cx="4464000" cy="337320"/>
            <a:chOff x="4284720" y="2468520"/>
            <a:chExt cx="4464000" cy="337320"/>
          </a:xfrm>
        </p:grpSpPr>
        <p:sp>
          <p:nvSpPr>
            <p:cNvPr id="503" name="Text Box 30"/>
            <p:cNvSpPr/>
            <p:nvPr/>
          </p:nvSpPr>
          <p:spPr>
            <a:xfrm>
              <a:off x="7524720" y="2468520"/>
              <a:ext cx="122400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UR   10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31"/>
            <p:cNvSpPr/>
            <p:nvPr/>
          </p:nvSpPr>
          <p:spPr>
            <a:xfrm>
              <a:off x="7020000" y="2565360"/>
              <a:ext cx="360360" cy="144360"/>
            </a:xfrm>
            <a:prstGeom prst="rightArrow">
              <a:avLst>
                <a:gd name="adj1" fmla="val 50000"/>
                <a:gd name="adj2" fmla="val 6240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37"/>
            <p:cNvSpPr/>
            <p:nvPr/>
          </p:nvSpPr>
          <p:spPr>
            <a:xfrm>
              <a:off x="4284720" y="2468520"/>
              <a:ext cx="266364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OCREDO I &amp; 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58"/>
          <p:cNvGrpSpPr/>
          <p:nvPr/>
        </p:nvGrpSpPr>
        <p:grpSpPr>
          <a:xfrm>
            <a:off x="4284720" y="2852640"/>
            <a:ext cx="4464000" cy="337320"/>
            <a:chOff x="4284720" y="2852640"/>
            <a:chExt cx="4464000" cy="337320"/>
          </a:xfrm>
        </p:grpSpPr>
        <p:sp>
          <p:nvSpPr>
            <p:cNvPr id="507" name="Text Box 38"/>
            <p:cNvSpPr/>
            <p:nvPr/>
          </p:nvSpPr>
          <p:spPr>
            <a:xfrm>
              <a:off x="7524720" y="2852640"/>
              <a:ext cx="122400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UR    5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39"/>
            <p:cNvSpPr/>
            <p:nvPr/>
          </p:nvSpPr>
          <p:spPr>
            <a:xfrm>
              <a:off x="7020000" y="2949480"/>
              <a:ext cx="360360" cy="144720"/>
            </a:xfrm>
            <a:prstGeom prst="rightArrow">
              <a:avLst>
                <a:gd name="adj1" fmla="val 50000"/>
                <a:gd name="adj2" fmla="val 6225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40"/>
            <p:cNvSpPr/>
            <p:nvPr/>
          </p:nvSpPr>
          <p:spPr>
            <a:xfrm>
              <a:off x="4284720" y="2852640"/>
              <a:ext cx="266364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44"/>
          <p:cNvSpPr/>
          <p:nvPr/>
        </p:nvSpPr>
        <p:spPr>
          <a:xfrm>
            <a:off x="971640" y="3778200"/>
            <a:ext cx="1439640" cy="495000"/>
          </a:xfrm>
          <a:prstGeom prst="rect">
            <a:avLst/>
          </a:prstGeom>
          <a:solidFill>
            <a:srgbClr val="96969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82800" anchor="ctr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45"/>
          <p:cNvSpPr/>
          <p:nvPr/>
        </p:nvSpPr>
        <p:spPr>
          <a:xfrm>
            <a:off x="2556000" y="39546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7"/>
          <p:cNvSpPr/>
          <p:nvPr/>
        </p:nvSpPr>
        <p:spPr>
          <a:xfrm>
            <a:off x="3132000" y="4456080"/>
            <a:ext cx="5616720" cy="5806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ports SMEs in pursuing environmentally sustainable business practic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49"/>
          <p:cNvSpPr/>
          <p:nvPr/>
        </p:nvSpPr>
        <p:spPr>
          <a:xfrm>
            <a:off x="2556000" y="467352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0"/>
          <p:cNvSpPr/>
          <p:nvPr/>
        </p:nvSpPr>
        <p:spPr>
          <a:xfrm>
            <a:off x="971640" y="4498920"/>
            <a:ext cx="1439640" cy="495000"/>
          </a:xfrm>
          <a:prstGeom prst="rect">
            <a:avLst/>
          </a:prstGeom>
          <a:solidFill>
            <a:srgbClr val="96969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82800" anchor="ctr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7"/>
          <p:cNvGrpSpPr/>
          <p:nvPr/>
        </p:nvGrpSpPr>
        <p:grpSpPr>
          <a:xfrm>
            <a:off x="4284720" y="3236760"/>
            <a:ext cx="4464000" cy="337320"/>
            <a:chOff x="4284720" y="3236760"/>
            <a:chExt cx="4464000" cy="337320"/>
          </a:xfrm>
        </p:grpSpPr>
        <p:sp>
          <p:nvSpPr>
            <p:cNvPr id="516" name="Text Box 54"/>
            <p:cNvSpPr/>
            <p:nvPr/>
          </p:nvSpPr>
          <p:spPr>
            <a:xfrm>
              <a:off x="7524720" y="3236760"/>
              <a:ext cx="122400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UR   10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55"/>
            <p:cNvSpPr/>
            <p:nvPr/>
          </p:nvSpPr>
          <p:spPr>
            <a:xfrm>
              <a:off x="7020000" y="3333600"/>
              <a:ext cx="360360" cy="144720"/>
            </a:xfrm>
            <a:prstGeom prst="rightArrow">
              <a:avLst>
                <a:gd name="adj1" fmla="val 50000"/>
                <a:gd name="adj2" fmla="val 6225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56"/>
            <p:cNvSpPr/>
            <p:nvPr/>
          </p:nvSpPr>
          <p:spPr>
            <a:xfrm>
              <a:off x="4284720" y="3236760"/>
              <a:ext cx="266364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BCI, SGCB, BNP NC &amp; BN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A8BD-9AF2-4E18-8AF7-EF50076D6FB0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66cc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522" name="Group 3"/>
          <p:cNvGrpSpPr/>
          <p:nvPr/>
        </p:nvGrpSpPr>
        <p:grpSpPr>
          <a:xfrm>
            <a:off x="971640" y="1844640"/>
            <a:ext cx="6335640" cy="368280"/>
            <a:chOff x="971640" y="1844640"/>
            <a:chExt cx="6335640" cy="368280"/>
          </a:xfrm>
        </p:grpSpPr>
        <p:sp>
          <p:nvSpPr>
            <p:cNvPr id="523" name="Text Box 4"/>
            <p:cNvSpPr/>
            <p:nvPr/>
          </p:nvSpPr>
          <p:spPr>
            <a:xfrm>
              <a:off x="971640" y="18478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5"/>
            <p:cNvSpPr/>
            <p:nvPr/>
          </p:nvSpPr>
          <p:spPr>
            <a:xfrm>
              <a:off x="1619280" y="18446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6"/>
          <p:cNvGrpSpPr/>
          <p:nvPr/>
        </p:nvGrpSpPr>
        <p:grpSpPr>
          <a:xfrm>
            <a:off x="971640" y="2516040"/>
            <a:ext cx="6335640" cy="368280"/>
            <a:chOff x="971640" y="2516040"/>
            <a:chExt cx="6335640" cy="368280"/>
          </a:xfrm>
        </p:grpSpPr>
        <p:sp>
          <p:nvSpPr>
            <p:cNvPr id="526" name="Text Box 7"/>
            <p:cNvSpPr/>
            <p:nvPr/>
          </p:nvSpPr>
          <p:spPr>
            <a:xfrm>
              <a:off x="971640" y="25192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8"/>
            <p:cNvSpPr/>
            <p:nvPr/>
          </p:nvSpPr>
          <p:spPr>
            <a:xfrm>
              <a:off x="1619280" y="25160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9"/>
          <p:cNvGrpSpPr/>
          <p:nvPr/>
        </p:nvGrpSpPr>
        <p:grpSpPr>
          <a:xfrm>
            <a:off x="971640" y="3187800"/>
            <a:ext cx="6335640" cy="368280"/>
            <a:chOff x="971640" y="3187800"/>
            <a:chExt cx="6335640" cy="368280"/>
          </a:xfrm>
        </p:grpSpPr>
        <p:sp>
          <p:nvSpPr>
            <p:cNvPr id="529" name="Text Box 10"/>
            <p:cNvSpPr/>
            <p:nvPr/>
          </p:nvSpPr>
          <p:spPr>
            <a:xfrm>
              <a:off x="971640" y="3190680"/>
              <a:ext cx="360360" cy="3600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11"/>
            <p:cNvSpPr/>
            <p:nvPr/>
          </p:nvSpPr>
          <p:spPr>
            <a:xfrm>
              <a:off x="1619280" y="318780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cc"/>
                  </a:solidFill>
                  <a:latin typeface="Arial"/>
                </a:rPr>
                <a:t>EIB Activities in the Pacific Reg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12"/>
          <p:cNvSpPr/>
          <p:nvPr/>
        </p:nvSpPr>
        <p:spPr>
          <a:xfrm>
            <a:off x="971640" y="3863880"/>
            <a:ext cx="360360" cy="360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1619280" y="386064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Arial"/>
              </a:rPr>
              <a:t>Cooperation with EC, other EU Institutions and Membe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4" descr="carpaclogo1"/>
          <p:cNvPicPr/>
          <p:nvPr/>
        </p:nvPicPr>
        <p:blipFill>
          <a:blip r:embed="rId1"/>
          <a:stretch/>
        </p:blipFill>
        <p:spPr>
          <a:xfrm>
            <a:off x="127080" y="4525920"/>
            <a:ext cx="8916840" cy="195120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15"/>
          <p:cNvSpPr/>
          <p:nvPr/>
        </p:nvSpPr>
        <p:spPr>
          <a:xfrm>
            <a:off x="468360" y="3898800"/>
            <a:ext cx="431640" cy="289080"/>
          </a:xfrm>
          <a:prstGeom prst="rightArrow">
            <a:avLst>
              <a:gd name="adj1" fmla="val 50000"/>
              <a:gd name="adj2" fmla="val 37329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6006-FEE5-45FA-AA4D-941A0D8F7873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"/>
          <p:cNvSpPr/>
          <p:nvPr/>
        </p:nvSpPr>
        <p:spPr>
          <a:xfrm>
            <a:off x="971640" y="98100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European Commission a close partner – externally &amp; interna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"/>
          <p:cNvGrpSpPr/>
          <p:nvPr/>
        </p:nvGrpSpPr>
        <p:grpSpPr>
          <a:xfrm>
            <a:off x="971640" y="506520"/>
            <a:ext cx="6913440" cy="360360"/>
            <a:chOff x="971640" y="506520"/>
            <a:chExt cx="6913440" cy="360360"/>
          </a:xfrm>
        </p:grpSpPr>
        <p:sp>
          <p:nvSpPr>
            <p:cNvPr id="539" name="Text Box 4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5"/>
            <p:cNvSpPr/>
            <p:nvPr/>
          </p:nvSpPr>
          <p:spPr>
            <a:xfrm>
              <a:off x="1619280" y="517680"/>
              <a:ext cx="62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"/>
                </a:rPr>
                <a:t>Cooperation with EC, other EU Institutions and Member St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6"/>
          <p:cNvSpPr/>
          <p:nvPr/>
        </p:nvSpPr>
        <p:spPr>
          <a:xfrm>
            <a:off x="900000" y="1700280"/>
            <a:ext cx="7777440" cy="103140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Cooperation in EIB’s Statu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sultation regarding individual proposals for pro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Representation on the EIB Board of Directors</a:t>
            </a: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900000" y="3009960"/>
            <a:ext cx="7777440" cy="75204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Strong operational links with the EC, as the initiator and executive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body for many areas of EU policies relevant to the E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900000" y="4046400"/>
            <a:ext cx="7777440" cy="75204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Maximising synergies between EIB lending and EU budgetary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resources for common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900000" y="5083200"/>
            <a:ext cx="7777440" cy="10810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Close cooperation with the EC Delegations in the Pacific 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br>
              <a:rPr sz="1800"/>
            </a:b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tributing to the EU's development and cooperation policies in th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Pacific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D23E-5B2C-4DBB-A031-FD06020E49D5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"/>
          <p:cNvSpPr/>
          <p:nvPr/>
        </p:nvSpPr>
        <p:spPr>
          <a:xfrm>
            <a:off x="971640" y="981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EU - EIB Cooperation in the Pacific Reg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900000" y="1700280"/>
            <a:ext cx="777744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EC &amp; EIB Cooperation crucial to fulfil Cotonou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900000" y="3468600"/>
            <a:ext cx="7777440" cy="75204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56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Indicative Plan for 11</a:t>
            </a:r>
            <a:r>
              <a:rPr b="1" lang="en-GB" sz="18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EDF and pre-programming consult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→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assistance financed from the EDF Fund allocated pe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900000" y="2197080"/>
            <a:ext cx="7777440" cy="64260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Strategic focus → co-financing in renewable energy </a:t>
            </a:r>
            <a:br>
              <a:rPr sz="1800"/>
            </a:b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      and water &amp; sani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3"/>
          <p:cNvSpPr/>
          <p:nvPr/>
        </p:nvSpPr>
        <p:spPr>
          <a:xfrm>
            <a:off x="900000" y="4981680"/>
            <a:ext cx="777744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Centre for the Development of Enterprise (CDE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900000" y="5460840"/>
            <a:ext cx="777744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PRO-INV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16"/>
          <p:cNvGrpSpPr/>
          <p:nvPr/>
        </p:nvGrpSpPr>
        <p:grpSpPr>
          <a:xfrm>
            <a:off x="971640" y="506520"/>
            <a:ext cx="6913440" cy="360360"/>
            <a:chOff x="971640" y="506520"/>
            <a:chExt cx="6913440" cy="360360"/>
          </a:xfrm>
        </p:grpSpPr>
        <p:sp>
          <p:nvSpPr>
            <p:cNvPr id="554" name="Text Box 17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8"/>
            <p:cNvSpPr/>
            <p:nvPr/>
          </p:nvSpPr>
          <p:spPr>
            <a:xfrm>
              <a:off x="1619280" y="517680"/>
              <a:ext cx="62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"/>
                </a:rPr>
                <a:t>Cooperation with EC, other EU Institutions and Member St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Text Box 19"/>
          <p:cNvSpPr/>
          <p:nvPr/>
        </p:nvSpPr>
        <p:spPr>
          <a:xfrm>
            <a:off x="900000" y="5942160"/>
            <a:ext cx="777744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EU Member St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0"/>
          <p:cNvSpPr/>
          <p:nvPr/>
        </p:nvSpPr>
        <p:spPr>
          <a:xfrm>
            <a:off x="900000" y="4502160"/>
            <a:ext cx="7777440" cy="366840"/>
          </a:xfrm>
          <a:prstGeom prst="rect">
            <a:avLst/>
          </a:prstGeom>
          <a:solidFill>
            <a:srgbClr val="99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 EU Partners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1"/>
          <p:cNvSpPr/>
          <p:nvPr/>
        </p:nvSpPr>
        <p:spPr>
          <a:xfrm>
            <a:off x="900000" y="2970360"/>
            <a:ext cx="777744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EU’s Investment Facility for the Pacific (IF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352C-3772-4807-94F5-924630A4274E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04"/>
          <p:cNvGrpSpPr/>
          <p:nvPr/>
        </p:nvGrpSpPr>
        <p:grpSpPr>
          <a:xfrm>
            <a:off x="971640" y="2054160"/>
            <a:ext cx="5184720" cy="368280"/>
            <a:chOff x="971640" y="2054160"/>
            <a:chExt cx="5184720" cy="368280"/>
          </a:xfrm>
        </p:grpSpPr>
        <p:sp>
          <p:nvSpPr>
            <p:cNvPr id="71" name="Text Box 40"/>
            <p:cNvSpPr/>
            <p:nvPr/>
          </p:nvSpPr>
          <p:spPr>
            <a:xfrm>
              <a:off x="971640" y="205416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stablish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41"/>
            <p:cNvSpPr/>
            <p:nvPr/>
          </p:nvSpPr>
          <p:spPr>
            <a:xfrm>
              <a:off x="3276720" y="2054160"/>
              <a:ext cx="28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Treaty of Rome, 195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97"/>
          <p:cNvGrpSpPr/>
          <p:nvPr/>
        </p:nvGrpSpPr>
        <p:grpSpPr>
          <a:xfrm>
            <a:off x="971640" y="2701800"/>
            <a:ext cx="5184720" cy="368280"/>
            <a:chOff x="971640" y="2701800"/>
            <a:chExt cx="5184720" cy="368280"/>
          </a:xfrm>
        </p:grpSpPr>
        <p:sp>
          <p:nvSpPr>
            <p:cNvPr id="74" name="Text Box 47"/>
            <p:cNvSpPr/>
            <p:nvPr/>
          </p:nvSpPr>
          <p:spPr>
            <a:xfrm>
              <a:off x="971640" y="27018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hareh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48"/>
            <p:cNvSpPr/>
            <p:nvPr/>
          </p:nvSpPr>
          <p:spPr>
            <a:xfrm>
              <a:off x="3276720" y="2701800"/>
              <a:ext cx="28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28 EU Member St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98"/>
          <p:cNvGrpSpPr/>
          <p:nvPr/>
        </p:nvGrpSpPr>
        <p:grpSpPr>
          <a:xfrm>
            <a:off x="971640" y="3284640"/>
            <a:ext cx="8173800" cy="2241720"/>
            <a:chOff x="971640" y="3284640"/>
            <a:chExt cx="8173800" cy="2241720"/>
          </a:xfrm>
        </p:grpSpPr>
        <p:sp>
          <p:nvSpPr>
            <p:cNvPr id="77" name="Text Box 49"/>
            <p:cNvSpPr/>
            <p:nvPr/>
          </p:nvSpPr>
          <p:spPr>
            <a:xfrm>
              <a:off x="971640" y="328464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overn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79"/>
            <p:cNvSpPr/>
            <p:nvPr/>
          </p:nvSpPr>
          <p:spPr>
            <a:xfrm>
              <a:off x="1200240" y="3753000"/>
              <a:ext cx="21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Board of Governo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80"/>
            <p:cNvSpPr/>
            <p:nvPr/>
          </p:nvSpPr>
          <p:spPr>
            <a:xfrm>
              <a:off x="3960720" y="3827520"/>
              <a:ext cx="505080" cy="216000"/>
            </a:xfrm>
            <a:prstGeom prst="rightArrow">
              <a:avLst>
                <a:gd name="adj1" fmla="val 50000"/>
                <a:gd name="adj2" fmla="val 58458"/>
              </a:avLst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1"/>
            <p:cNvSpPr/>
            <p:nvPr/>
          </p:nvSpPr>
          <p:spPr>
            <a:xfrm>
              <a:off x="4681440" y="3753000"/>
              <a:ext cx="32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EU Finance Ministe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84"/>
            <p:cNvSpPr/>
            <p:nvPr/>
          </p:nvSpPr>
          <p:spPr>
            <a:xfrm>
              <a:off x="1200240" y="4221360"/>
              <a:ext cx="21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Board of Directo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85"/>
            <p:cNvSpPr/>
            <p:nvPr/>
          </p:nvSpPr>
          <p:spPr>
            <a:xfrm>
              <a:off x="3960720" y="4292640"/>
              <a:ext cx="505080" cy="216000"/>
            </a:xfrm>
            <a:prstGeom prst="rightArrow">
              <a:avLst>
                <a:gd name="adj1" fmla="val 50000"/>
                <a:gd name="adj2" fmla="val 58458"/>
              </a:avLst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86"/>
            <p:cNvSpPr/>
            <p:nvPr/>
          </p:nvSpPr>
          <p:spPr>
            <a:xfrm>
              <a:off x="4681440" y="4218120"/>
              <a:ext cx="44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Member States &amp; European Commiss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89"/>
            <p:cNvSpPr/>
            <p:nvPr/>
          </p:nvSpPr>
          <p:spPr>
            <a:xfrm>
              <a:off x="1200240" y="4689720"/>
              <a:ext cx="30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Management Committe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90"/>
            <p:cNvSpPr/>
            <p:nvPr/>
          </p:nvSpPr>
          <p:spPr>
            <a:xfrm>
              <a:off x="3960720" y="4759560"/>
              <a:ext cx="505080" cy="216000"/>
            </a:xfrm>
            <a:prstGeom prst="rightArrow">
              <a:avLst>
                <a:gd name="adj1" fmla="val 50000"/>
                <a:gd name="adj2" fmla="val 58458"/>
              </a:avLst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1"/>
            <p:cNvSpPr/>
            <p:nvPr/>
          </p:nvSpPr>
          <p:spPr>
            <a:xfrm>
              <a:off x="4681440" y="4685040"/>
              <a:ext cx="44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EIB’s executive bod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92"/>
            <p:cNvSpPr/>
            <p:nvPr/>
          </p:nvSpPr>
          <p:spPr>
            <a:xfrm>
              <a:off x="1200240" y="5158080"/>
              <a:ext cx="30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Audit Committe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93"/>
            <p:cNvSpPr/>
            <p:nvPr/>
          </p:nvSpPr>
          <p:spPr>
            <a:xfrm>
              <a:off x="3960720" y="5226120"/>
              <a:ext cx="505080" cy="216000"/>
            </a:xfrm>
            <a:prstGeom prst="rightArrow">
              <a:avLst>
                <a:gd name="adj1" fmla="val 50000"/>
                <a:gd name="adj2" fmla="val 58458"/>
              </a:avLst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94"/>
            <p:cNvSpPr/>
            <p:nvPr/>
          </p:nvSpPr>
          <p:spPr>
            <a:xfrm>
              <a:off x="4681440" y="5151600"/>
              <a:ext cx="44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Independent, non-residen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99"/>
          <p:cNvSpPr/>
          <p:nvPr/>
        </p:nvSpPr>
        <p:spPr>
          <a:xfrm>
            <a:off x="971640" y="98100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EIB – The EU’s long-term Financing Institution </a:t>
            </a:r>
            <a:br>
              <a:rPr sz="2000"/>
            </a:b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promoting European Objectives</a:t>
            </a:r>
            <a:r>
              <a:rPr b="1" lang="fr-CH" sz="18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00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92" name="Text Box 101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2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C7C8-3CE6-4575-BBDE-E2B7C00557CB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900000" y="2781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Illustrations</a:t>
            </a:r>
            <a:r>
              <a:rPr b="0" lang="en-GB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7"/>
          <p:cNvGrpSpPr/>
          <p:nvPr/>
        </p:nvGrpSpPr>
        <p:grpSpPr>
          <a:xfrm>
            <a:off x="971640" y="506520"/>
            <a:ext cx="6913440" cy="360360"/>
            <a:chOff x="971640" y="506520"/>
            <a:chExt cx="6913440" cy="360360"/>
          </a:xfrm>
        </p:grpSpPr>
        <p:sp>
          <p:nvSpPr>
            <p:cNvPr id="563" name="Text Box 8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9"/>
            <p:cNvSpPr/>
            <p:nvPr/>
          </p:nvSpPr>
          <p:spPr>
            <a:xfrm>
              <a:off x="1619280" y="517680"/>
              <a:ext cx="62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"/>
                </a:rPr>
                <a:t>Cooperation with EC, other EU Institutions and Member St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 Box 10"/>
          <p:cNvSpPr/>
          <p:nvPr/>
        </p:nvSpPr>
        <p:spPr>
          <a:xfrm>
            <a:off x="900000" y="98100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Promoting Partnershi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2"/>
          <p:cNvSpPr/>
          <p:nvPr/>
        </p:nvSpPr>
        <p:spPr>
          <a:xfrm>
            <a:off x="900000" y="1700280"/>
            <a:ext cx="7777440" cy="119124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 marL="361800" indent="-361800">
              <a:spcAft>
                <a:spcPts val="4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of 224 projects signed to date, 53% (119 projects) are being co-financed with development finance institutions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CPs &amp; OCTs – IF &amp; 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900000" y="3429000"/>
            <a:ext cx="7777440" cy="114192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Financing Partners (EF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ing together: the EIB and European finance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: medium-sized, commercially viable private sector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900000" y="4797360"/>
            <a:ext cx="7777440" cy="14734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tual Reliance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gation of tasks among participating IFIs (AFD, EIB, Kf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-2011: pilot phase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2: common operational 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1DA4-4FBB-4BC5-907C-E2D2F79A2B62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"/>
          <p:cNvSpPr/>
          <p:nvPr/>
        </p:nvSpPr>
        <p:spPr>
          <a:xfrm>
            <a:off x="914400" y="304920"/>
            <a:ext cx="3868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1251000" y="293760"/>
            <a:ext cx="2968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317520" y="5229360"/>
            <a:ext cx="169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0" y="4292640"/>
            <a:ext cx="85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716040" y="55897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1514520" y="333360"/>
            <a:ext cx="169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82480" y="1413000"/>
            <a:ext cx="169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565200" y="1403280"/>
            <a:ext cx="169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3280680" y="549360"/>
            <a:ext cx="146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993300"/>
                </a:solidFill>
                <a:latin typeface="Arial"/>
              </a:rPr>
              <a:t>Contac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1" descr="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202536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12"/>
          <p:cNvSpPr/>
          <p:nvPr/>
        </p:nvSpPr>
        <p:spPr>
          <a:xfrm>
            <a:off x="1547640" y="2652840"/>
            <a:ext cx="302436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Adam Bru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Head of Regional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3"/>
          <p:cNvSpPr/>
          <p:nvPr/>
        </p:nvSpPr>
        <p:spPr>
          <a:xfrm>
            <a:off x="4427640" y="2637000"/>
            <a:ext cx="30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993300"/>
                </a:solidFill>
                <a:latin typeface="Arial"/>
              </a:rPr>
              <a:t>tel +(61 2) 8211 0536</a:t>
            </a:r>
            <a:br>
              <a:rPr sz="1400"/>
            </a:br>
            <a:r>
              <a:rPr b="0" lang="fr-CH" sz="1400" spc="-1" strike="noStrike">
                <a:solidFill>
                  <a:srgbClr val="993300"/>
                </a:solidFill>
                <a:latin typeface="Arial"/>
              </a:rPr>
              <a:t>email: a.bruun@eib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4"/>
          <p:cNvSpPr/>
          <p:nvPr/>
        </p:nvSpPr>
        <p:spPr>
          <a:xfrm>
            <a:off x="1547640" y="3573360"/>
            <a:ext cx="302436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Katrin B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Business Analy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5"/>
          <p:cNvSpPr/>
          <p:nvPr/>
        </p:nvSpPr>
        <p:spPr>
          <a:xfrm>
            <a:off x="4427640" y="3573360"/>
            <a:ext cx="30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993300"/>
                </a:solidFill>
                <a:latin typeface="Arial"/>
              </a:rPr>
              <a:t>tel +(61 2) 8211 0532</a:t>
            </a:r>
            <a:br>
              <a:rPr sz="1400"/>
            </a:br>
            <a:r>
              <a:rPr b="0" lang="fr-CH" sz="1400" spc="-1" strike="noStrike">
                <a:solidFill>
                  <a:srgbClr val="993300"/>
                </a:solidFill>
                <a:latin typeface="Arial"/>
              </a:rPr>
              <a:t>email: k.bock@eib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6"/>
          <p:cNvSpPr/>
          <p:nvPr/>
        </p:nvSpPr>
        <p:spPr>
          <a:xfrm>
            <a:off x="2771640" y="1406520"/>
            <a:ext cx="302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European Investment Bank</a:t>
            </a:r>
            <a:br>
              <a:rPr sz="1400"/>
            </a:b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Pacific Regional Office </a:t>
            </a:r>
            <a:br>
              <a:rPr sz="1400"/>
            </a:b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Level 25, 88 Phillip Street</a:t>
            </a:r>
            <a:br>
              <a:rPr sz="1400"/>
            </a:b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SYDNEY NSW 2000 Austr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AF91-F64D-422F-B636-F91CA5A1683E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9"/>
          <p:cNvSpPr/>
          <p:nvPr/>
        </p:nvSpPr>
        <p:spPr>
          <a:xfrm>
            <a:off x="97164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0"/>
          <p:cNvSpPr/>
          <p:nvPr/>
        </p:nvSpPr>
        <p:spPr>
          <a:xfrm>
            <a:off x="2916360" y="1628640"/>
            <a:ext cx="615636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ibution towards the integration, balance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economic and social cohes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EU Member St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sion of long-term lending to promote EU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s for economic and social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71"/>
          <p:cNvGrpSpPr/>
          <p:nvPr/>
        </p:nvGrpSpPr>
        <p:grpSpPr>
          <a:xfrm>
            <a:off x="971640" y="3726000"/>
            <a:ext cx="8280360" cy="1081080"/>
            <a:chOff x="971640" y="3726000"/>
            <a:chExt cx="8280360" cy="1081080"/>
          </a:xfrm>
        </p:grpSpPr>
        <p:sp>
          <p:nvSpPr>
            <p:cNvPr id="99" name="Text Box 59"/>
            <p:cNvSpPr/>
            <p:nvPr/>
          </p:nvSpPr>
          <p:spPr>
            <a:xfrm>
              <a:off x="971640" y="372600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xternal Len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0"/>
            <p:cNvSpPr/>
            <p:nvPr/>
          </p:nvSpPr>
          <p:spPr>
            <a:xfrm>
              <a:off x="3743280" y="3726000"/>
              <a:ext cx="5508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12"/>
                </a:spcBef>
                <a:spcAft>
                  <a:spcPts val="10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Based on a series of mandates given by the Union</a:t>
              </a:r>
              <a:br>
                <a:rPr sz="1800"/>
              </a:b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(Accession countries, Euro-Med, ACP, OCTs, ALA, </a:t>
              </a:r>
              <a:br>
                <a:rPr sz="1800"/>
              </a:b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Balkans, Russi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73"/>
          <p:cNvGrpSpPr/>
          <p:nvPr/>
        </p:nvGrpSpPr>
        <p:grpSpPr>
          <a:xfrm>
            <a:off x="971640" y="5052960"/>
            <a:ext cx="7237440" cy="1195560"/>
            <a:chOff x="971640" y="5052960"/>
            <a:chExt cx="7237440" cy="1195560"/>
          </a:xfrm>
        </p:grpSpPr>
        <p:sp>
          <p:nvSpPr>
            <p:cNvPr id="102" name="Text Box 62"/>
            <p:cNvSpPr/>
            <p:nvPr/>
          </p:nvSpPr>
          <p:spPr>
            <a:xfrm>
              <a:off x="971640" y="5052960"/>
              <a:ext cx="31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3"/>
                </a:buBlip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ending for the ACP/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63"/>
            <p:cNvSpPr/>
            <p:nvPr/>
          </p:nvSpPr>
          <p:spPr>
            <a:xfrm>
              <a:off x="3743280" y="5052960"/>
              <a:ext cx="4465800" cy="11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marL="343080" indent="-343080">
                <a:lnSpc>
                  <a:spcPct val="120000"/>
                </a:lnSpc>
                <a:spcBef>
                  <a:spcPts val="451"/>
                </a:spcBef>
                <a:spcAft>
                  <a:spcPts val="451"/>
                </a:spcAft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Cotonou Agreement with the Investment Facility / EDF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451"/>
                </a:spcBef>
                <a:spcAft>
                  <a:spcPts val="451"/>
                </a:spcAft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Own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66"/>
          <p:cNvSpPr/>
          <p:nvPr/>
        </p:nvSpPr>
        <p:spPr>
          <a:xfrm>
            <a:off x="971640" y="981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Facts &amp; Fig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67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106" name="Text Box 68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69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6062-255F-4245-9CBF-20B19B8837CB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7"/>
          <p:cNvSpPr/>
          <p:nvPr/>
        </p:nvSpPr>
        <p:spPr>
          <a:xfrm>
            <a:off x="971640" y="981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Key 2012 Figure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84"/>
          <p:cNvGrpSpPr/>
          <p:nvPr/>
        </p:nvGrpSpPr>
        <p:grpSpPr>
          <a:xfrm>
            <a:off x="971640" y="1700280"/>
            <a:ext cx="6121440" cy="1871640"/>
            <a:chOff x="971640" y="1700280"/>
            <a:chExt cx="6121440" cy="1871640"/>
          </a:xfrm>
        </p:grpSpPr>
        <p:sp>
          <p:nvSpPr>
            <p:cNvPr id="112" name="Rectangle 80"/>
            <p:cNvSpPr/>
            <p:nvPr/>
          </p:nvSpPr>
          <p:spPr>
            <a:xfrm>
              <a:off x="971640" y="1700280"/>
              <a:ext cx="6121440" cy="1871640"/>
            </a:xfrm>
            <a:prstGeom prst="rect">
              <a:avLst/>
            </a:prstGeom>
            <a:solidFill>
              <a:srgbClr val="8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59"/>
            <p:cNvSpPr/>
            <p:nvPr/>
          </p:nvSpPr>
          <p:spPr>
            <a:xfrm>
              <a:off x="1254240" y="226692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uropean Unio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0"/>
            <p:cNvSpPr/>
            <p:nvPr/>
          </p:nvSpPr>
          <p:spPr>
            <a:xfrm>
              <a:off x="5292720" y="2266920"/>
              <a:ext cx="14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EUR 44.7 b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67"/>
            <p:cNvSpPr/>
            <p:nvPr/>
          </p:nvSpPr>
          <p:spPr>
            <a:xfrm>
              <a:off x="1255680" y="177156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jects signed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69"/>
            <p:cNvSpPr/>
            <p:nvPr/>
          </p:nvSpPr>
          <p:spPr>
            <a:xfrm>
              <a:off x="1254240" y="270036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artner Countries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70"/>
            <p:cNvSpPr/>
            <p:nvPr/>
          </p:nvSpPr>
          <p:spPr>
            <a:xfrm>
              <a:off x="5292720" y="2700360"/>
              <a:ext cx="14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EUR   7.4 b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72"/>
            <p:cNvSpPr/>
            <p:nvPr/>
          </p:nvSpPr>
          <p:spPr>
            <a:xfrm>
              <a:off x="1254240" y="313380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otal Lending</a:t>
              </a:r>
              <a:r>
                <a:rPr b="0" lang="en-GB" sz="1800" spc="-1" strike="noStrike">
                  <a:solidFill>
                    <a:srgbClr val="015aab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3"/>
            <p:cNvSpPr/>
            <p:nvPr/>
          </p:nvSpPr>
          <p:spPr>
            <a:xfrm>
              <a:off x="5292720" y="3133800"/>
              <a:ext cx="14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EUR 52.2 b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85"/>
          <p:cNvGrpSpPr/>
          <p:nvPr/>
        </p:nvGrpSpPr>
        <p:grpSpPr>
          <a:xfrm>
            <a:off x="971640" y="3787920"/>
            <a:ext cx="6121440" cy="502920"/>
            <a:chOff x="971640" y="3787920"/>
            <a:chExt cx="6121440" cy="502920"/>
          </a:xfrm>
        </p:grpSpPr>
        <p:sp>
          <p:nvSpPr>
            <p:cNvPr id="121" name="Rectangle 81"/>
            <p:cNvSpPr/>
            <p:nvPr/>
          </p:nvSpPr>
          <p:spPr>
            <a:xfrm>
              <a:off x="971640" y="3787920"/>
              <a:ext cx="6121440" cy="502920"/>
            </a:xfrm>
            <a:prstGeom prst="rect">
              <a:avLst/>
            </a:prstGeom>
            <a:solidFill>
              <a:srgbClr val="8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62"/>
            <p:cNvSpPr/>
            <p:nvPr/>
          </p:nvSpPr>
          <p:spPr>
            <a:xfrm>
              <a:off x="1254240" y="385884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orrowings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75"/>
            <p:cNvSpPr/>
            <p:nvPr/>
          </p:nvSpPr>
          <p:spPr>
            <a:xfrm>
              <a:off x="5292720" y="3887640"/>
              <a:ext cx="14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EUR 71.3 b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7"/>
          <p:cNvGrpSpPr/>
          <p:nvPr/>
        </p:nvGrpSpPr>
        <p:grpSpPr>
          <a:xfrm>
            <a:off x="971640" y="4541760"/>
            <a:ext cx="6121440" cy="720720"/>
            <a:chOff x="971640" y="4541760"/>
            <a:chExt cx="6121440" cy="720720"/>
          </a:xfrm>
        </p:grpSpPr>
        <p:sp>
          <p:nvSpPr>
            <p:cNvPr id="125" name="Rectangle 82"/>
            <p:cNvSpPr/>
            <p:nvPr/>
          </p:nvSpPr>
          <p:spPr>
            <a:xfrm>
              <a:off x="971640" y="4541760"/>
              <a:ext cx="6121440" cy="720720"/>
            </a:xfrm>
            <a:prstGeom prst="rect">
              <a:avLst/>
            </a:prstGeom>
            <a:solidFill>
              <a:srgbClr val="8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65"/>
            <p:cNvSpPr/>
            <p:nvPr/>
          </p:nvSpPr>
          <p:spPr>
            <a:xfrm>
              <a:off x="1254240" y="4573440"/>
              <a:ext cx="34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bscribed capital </a:t>
              </a:r>
              <a:br>
                <a:rPr sz="1800"/>
              </a:b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at 31/12/201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77"/>
            <p:cNvSpPr/>
            <p:nvPr/>
          </p:nvSpPr>
          <p:spPr>
            <a:xfrm>
              <a:off x="5003640" y="457344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EUR 242.4 b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88"/>
          <p:cNvSpPr/>
          <p:nvPr/>
        </p:nvSpPr>
        <p:spPr>
          <a:xfrm>
            <a:off x="971640" y="566100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993300"/>
                </a:solidFill>
                <a:latin typeface="Arial"/>
              </a:rPr>
              <a:t>*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400" spc="-1" strike="noStrike">
                <a:solidFill>
                  <a:srgbClr val="993300"/>
                </a:solidFill>
                <a:latin typeface="Arial"/>
              </a:rPr>
              <a:t>Situation as at 31.12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9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130" name="Text Box 90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91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AFDB-0028-4363-B2AF-779790749812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1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135" name="Text Box 22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3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25"/>
          <p:cNvSpPr/>
          <p:nvPr/>
        </p:nvSpPr>
        <p:spPr>
          <a:xfrm>
            <a:off x="958680" y="98100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Breakdown of the EIB’s Capital as at 1 July 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900000" y="1320840"/>
            <a:ext cx="79977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04B2-FB25-4767-9B1C-876BEE511D59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971640" y="981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Largest Supranational Len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7"/>
          <p:cNvGraphicFramePr/>
          <p:nvPr/>
        </p:nvGraphicFramePr>
        <p:xfrm>
          <a:off x="684360" y="1413000"/>
          <a:ext cx="813564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3000"/>
                    <a:ext cx="813564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9"/>
          <p:cNvSpPr/>
          <p:nvPr/>
        </p:nvSpPr>
        <p:spPr>
          <a:xfrm>
            <a:off x="2556000" y="5157720"/>
            <a:ext cx="4457520" cy="10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900" spc="-1" strike="noStrike">
                <a:solidFill>
                  <a:srgbClr val="993300"/>
                </a:solidFill>
                <a:latin typeface="Arial"/>
                <a:ea typeface="Times New Roman"/>
              </a:rPr>
              <a:t>Loans outstanding (signe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993300"/>
                </a:solidFill>
                <a:latin typeface="Arial"/>
                <a:ea typeface="Times New Roman"/>
              </a:rPr>
              <a:t>ADB, AfDB, EBRD, EIB, IADB, NIB: December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993300"/>
                </a:solidFill>
                <a:latin typeface="Arial"/>
                <a:ea typeface="Times New Roman"/>
              </a:rPr>
              <a:t>World Bank, IFC: June 2008</a:t>
            </a:r>
            <a:r>
              <a:rPr b="1" lang="en-GB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146" name="Text Box 11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2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13"/>
          <p:cNvSpPr/>
          <p:nvPr/>
        </p:nvSpPr>
        <p:spPr>
          <a:xfrm>
            <a:off x="1042920" y="1700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99B2-AD9E-4895-B266-173FD79BD5C2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971640" y="981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Projects signed in 2012: breakdown by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153" name="Text Box 4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12"/>
          <p:cNvSpPr/>
          <p:nvPr/>
        </p:nvSpPr>
        <p:spPr>
          <a:xfrm>
            <a:off x="971640" y="1628640"/>
            <a:ext cx="7954920" cy="793800"/>
          </a:xfrm>
          <a:prstGeom prst="rect">
            <a:avLst/>
          </a:prstGeom>
          <a:solidFill>
            <a:srgbClr val="9933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971640" y="1700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Private sector projects represent 64% of the overall portfolio of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ACP and OCT lending since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987840" y="3924720"/>
            <a:ext cx="328824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marL="266760" indent="-26676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EUR 264 M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EUR 206.5 M credit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EUR 95 M trans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EUR </a:t>
            </a:r>
            <a:r>
              <a:rPr b="1" lang="fr-CH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71 M finan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EUR 8 M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EUR 664 M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Chart 11" descr=""/>
          <p:cNvPicPr/>
          <p:nvPr/>
        </p:nvPicPr>
        <p:blipFill>
          <a:blip r:embed="rId2"/>
          <a:stretch/>
        </p:blipFill>
        <p:spPr>
          <a:xfrm>
            <a:off x="4413240" y="2554200"/>
            <a:ext cx="452268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1654-2E8D-4AAF-99EB-7AC698BBEFCD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66cc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162" name="Group 3"/>
          <p:cNvGrpSpPr/>
          <p:nvPr/>
        </p:nvGrpSpPr>
        <p:grpSpPr>
          <a:xfrm>
            <a:off x="971640" y="1844640"/>
            <a:ext cx="6335640" cy="368280"/>
            <a:chOff x="971640" y="1844640"/>
            <a:chExt cx="6335640" cy="368280"/>
          </a:xfrm>
        </p:grpSpPr>
        <p:sp>
          <p:nvSpPr>
            <p:cNvPr id="163" name="Text Box 4"/>
            <p:cNvSpPr/>
            <p:nvPr/>
          </p:nvSpPr>
          <p:spPr>
            <a:xfrm>
              <a:off x="971640" y="18478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5"/>
            <p:cNvSpPr/>
            <p:nvPr/>
          </p:nvSpPr>
          <p:spPr>
            <a:xfrm>
              <a:off x="1619280" y="18446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6"/>
          <p:cNvGrpSpPr/>
          <p:nvPr/>
        </p:nvGrpSpPr>
        <p:grpSpPr>
          <a:xfrm>
            <a:off x="971640" y="2516040"/>
            <a:ext cx="6335640" cy="368280"/>
            <a:chOff x="971640" y="2516040"/>
            <a:chExt cx="6335640" cy="368280"/>
          </a:xfrm>
        </p:grpSpPr>
        <p:sp>
          <p:nvSpPr>
            <p:cNvPr id="166" name="Text Box 7"/>
            <p:cNvSpPr/>
            <p:nvPr/>
          </p:nvSpPr>
          <p:spPr>
            <a:xfrm>
              <a:off x="971640" y="25192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8"/>
            <p:cNvSpPr/>
            <p:nvPr/>
          </p:nvSpPr>
          <p:spPr>
            <a:xfrm>
              <a:off x="1619280" y="25160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9"/>
          <p:cNvGrpSpPr/>
          <p:nvPr/>
        </p:nvGrpSpPr>
        <p:grpSpPr>
          <a:xfrm>
            <a:off x="971640" y="3187800"/>
            <a:ext cx="6335640" cy="368280"/>
            <a:chOff x="971640" y="3187800"/>
            <a:chExt cx="6335640" cy="368280"/>
          </a:xfrm>
        </p:grpSpPr>
        <p:sp>
          <p:nvSpPr>
            <p:cNvPr id="169" name="Text Box 10"/>
            <p:cNvSpPr/>
            <p:nvPr/>
          </p:nvSpPr>
          <p:spPr>
            <a:xfrm>
              <a:off x="971640" y="3190680"/>
              <a:ext cx="360360" cy="3600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1"/>
            <p:cNvSpPr/>
            <p:nvPr/>
          </p:nvSpPr>
          <p:spPr>
            <a:xfrm>
              <a:off x="1619280" y="318780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cc"/>
                  </a:solidFill>
                  <a:latin typeface="Arial"/>
                </a:rPr>
                <a:t>EIB Activities in the Pacific Reg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2"/>
          <p:cNvSpPr/>
          <p:nvPr/>
        </p:nvSpPr>
        <p:spPr>
          <a:xfrm>
            <a:off x="971640" y="3863880"/>
            <a:ext cx="360360" cy="360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1619280" y="386064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Arial"/>
              </a:rPr>
              <a:t>Cooperation with EC, other EU Institutions and Membe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4" descr="carpaclogo1"/>
          <p:cNvPicPr/>
          <p:nvPr/>
        </p:nvPicPr>
        <p:blipFill>
          <a:blip r:embed="rId1"/>
          <a:stretch/>
        </p:blipFill>
        <p:spPr>
          <a:xfrm>
            <a:off x="127080" y="4525920"/>
            <a:ext cx="8916840" cy="19512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15"/>
          <p:cNvSpPr/>
          <p:nvPr/>
        </p:nvSpPr>
        <p:spPr>
          <a:xfrm>
            <a:off x="468360" y="256392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5:37:45Z</dcterms:created>
  <dc:creator>BEARNEA</dc:creator>
  <dc:description/>
  <dc:language>en-US</dc:language>
  <cp:lastModifiedBy>Katya</cp:lastModifiedBy>
  <dcterms:modified xsi:type="dcterms:W3CDTF">2015-01-16T12:24:49Z</dcterms:modified>
  <cp:revision>127</cp:revision>
  <dc:subject/>
  <dc:title>Slide 1</dc:title>
</cp:coreProperties>
</file>